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F08-5863-4CF6-97C0-1B4C08F8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163-FCE9-495B-A100-D13D646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638-A677-4ABB-8707-A3DB1AB9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917-C588-4BA5-A1FD-830AD66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9E0-8930-4FE0-ADBA-848B91CF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A43-C9A9-47C0-B310-573952C2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0D5-E231-4967-9B7E-9C79B8D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B76-03CF-4684-A053-63BF855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F1A-A473-4705-9E2D-D5AA852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967-DBEA-40D7-B2AF-E9556866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F2A-40DE-40BD-A22F-B9332F93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145-A44B-4C45-91D2-A459C12C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65BA-DBB9-4C21-9030-B9A92BAC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2A8A-D5E6-4DEA-A118-18F441E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231-D70D-4C7B-AAE8-65385069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84E-4590-4B43-B9DA-85EC3D7F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5E6-5209-4D39-85C6-80A2295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9EE-8B51-4CC5-96E1-025A6EEF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60B4-2C63-4F79-BC89-968FA87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0009-23A3-4F9E-B063-AA73012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571A-9C12-42A0-9974-DF59052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EA49-CDD6-4479-826E-BFC9392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0E2E-1F5A-4643-BEC0-4D701F51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BD6-1037-4112-9C7D-0A17C4E9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DFE52-669D-4F2B-90FD-C4E3F59AE9D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54315-7887-48EC-81A2-E17AF5FE4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Архитектура и принципы постро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Категории информации (подсистем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00000" y="1895400"/>
            <a:ext cx="828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Times New Roman"/>
              </a:rPr>
              <a:t>Информация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539640" y="235440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Зарегистрированные АМТС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ыданные водительские удостовер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Учет экзаменов на получение В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Угнанные (похищенные) АМТС в регио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Утраченные в регионе документы и спецпродукц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Ограничения на АМТС в регио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аспределение спецпродукции по подразделения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Дорожно-транспортные происшеств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Административные правонаруш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Нарушения ПДД, зафиксированные работающими в автоматическом режиме техническими средствами фото-видео-фикс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Фиксация оплаты штрафов за нарушения ПДД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Лица, разыскиваемые на региональном уровн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1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АМТС, разыскиваемые на региональном уровн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"/>
          <p:cNvSpPr/>
          <p:nvPr/>
        </p:nvSpPr>
        <p:spPr>
          <a:xfrm>
            <a:off x="1832040" y="360360"/>
            <a:ext cx="734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Функциональные связи с внешними систе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3780000" y="3780000"/>
            <a:ext cx="2519280" cy="126036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С Р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4"/>
          <p:cNvSpPr/>
          <p:nvPr/>
        </p:nvSpPr>
        <p:spPr>
          <a:xfrm>
            <a:off x="4140360" y="2160720"/>
            <a:ext cx="1800000" cy="1079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5"/>
          <p:cNvSpPr/>
          <p:nvPr/>
        </p:nvSpPr>
        <p:spPr>
          <a:xfrm>
            <a:off x="7524720" y="2519280"/>
            <a:ext cx="1800360" cy="107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наче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533520" y="1979640"/>
            <a:ext cx="1800000" cy="107964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С РВ различных уровн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539640" y="4500720"/>
            <a:ext cx="1800360" cy="1079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заменационный класс «Зени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>
            <a:off x="7524720" y="5040360"/>
            <a:ext cx="1979640" cy="1079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S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ster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533520" y="3195720"/>
            <a:ext cx="1800000" cy="107928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517680" y="5796000"/>
            <a:ext cx="1800000" cy="107964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Р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0" name="AutoShape 11"/>
          <p:cNvCxnSpPr>
            <a:stCxn id="348" idx="4"/>
            <a:endCxn id="342" idx="2"/>
          </p:cNvCxnSpPr>
          <p:nvPr/>
        </p:nvCxnSpPr>
        <p:spPr>
          <a:xfrm>
            <a:off x="2333520" y="3735360"/>
            <a:ext cx="1447200" cy="675360"/>
          </a:xfrm>
          <a:prstGeom prst="bentConnector3">
            <a:avLst>
              <a:gd name="adj1" fmla="val 49987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1" name="AutoShape 12"/>
          <p:cNvCxnSpPr>
            <a:stCxn id="349" idx="4"/>
            <a:endCxn id="342" idx="2"/>
          </p:cNvCxnSpPr>
          <p:nvPr/>
        </p:nvCxnSpPr>
        <p:spPr>
          <a:xfrm flipV="1">
            <a:off x="2317680" y="4409280"/>
            <a:ext cx="1463040" cy="1926360"/>
          </a:xfrm>
          <a:prstGeom prst="bentConnector3">
            <a:avLst>
              <a:gd name="adj1" fmla="val 49987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2" name="AutoShape 13"/>
          <p:cNvCxnSpPr>
            <a:stCxn id="346" idx="4"/>
            <a:endCxn id="342" idx="2"/>
          </p:cNvCxnSpPr>
          <p:nvPr/>
        </p:nvCxnSpPr>
        <p:spPr>
          <a:xfrm flipV="1">
            <a:off x="2340000" y="4409280"/>
            <a:ext cx="1440360" cy="631080"/>
          </a:xfrm>
          <a:prstGeom prst="bentConnector3">
            <a:avLst>
              <a:gd name="adj1" fmla="val 50000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3" name="AutoShape 14"/>
          <p:cNvCxnSpPr>
            <a:stCxn id="345" idx="4"/>
            <a:endCxn id="342" idx="2"/>
          </p:cNvCxnSpPr>
          <p:nvPr/>
        </p:nvCxnSpPr>
        <p:spPr>
          <a:xfrm>
            <a:off x="2333520" y="2519280"/>
            <a:ext cx="1447200" cy="1891440"/>
          </a:xfrm>
          <a:prstGeom prst="bentConnector3">
            <a:avLst>
              <a:gd name="adj1" fmla="val 49987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4" name="AutoShape 15"/>
          <p:cNvCxnSpPr>
            <a:stCxn id="342" idx="1"/>
            <a:endCxn id="343" idx="45"/>
          </p:cNvCxnSpPr>
          <p:nvPr/>
        </p:nvCxnSpPr>
        <p:spPr>
          <a:xfrm flipV="1">
            <a:off x="5040360" y="3239640"/>
            <a:ext cx="2160" cy="540720"/>
          </a:xfrm>
          <a:prstGeom prst="bentConnector3">
            <a:avLst>
              <a:gd name="adj1" fmla="val 40000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5" name="AutoShape 16"/>
          <p:cNvCxnSpPr>
            <a:stCxn id="342" idx="4"/>
            <a:endCxn id="344" idx="45"/>
          </p:cNvCxnSpPr>
          <p:nvPr/>
        </p:nvCxnSpPr>
        <p:spPr>
          <a:xfrm flipV="1">
            <a:off x="6300720" y="3060360"/>
            <a:ext cx="1224720" cy="1350000"/>
          </a:xfrm>
          <a:prstGeom prst="bentConnector3">
            <a:avLst>
              <a:gd name="adj1" fmla="val 49985"/>
            </a:avLst>
          </a:prstGeom>
          <a:ln w="36000">
            <a:solidFill>
              <a:srgbClr val="eb613d"/>
            </a:solidFill>
            <a:round/>
          </a:ln>
        </p:spPr>
      </p:cxnSp>
      <p:cxnSp>
        <p:nvCxnSpPr>
          <p:cNvPr id="356" name="AutoShape 17"/>
          <p:cNvCxnSpPr>
            <a:stCxn id="342" idx="4"/>
            <a:endCxn id="347" idx="45"/>
          </p:cNvCxnSpPr>
          <p:nvPr/>
        </p:nvCxnSpPr>
        <p:spPr>
          <a:xfrm>
            <a:off x="6300720" y="4410000"/>
            <a:ext cx="1224720" cy="1170720"/>
          </a:xfrm>
          <a:prstGeom prst="bentConnector3">
            <a:avLst>
              <a:gd name="adj1" fmla="val 49985"/>
            </a:avLst>
          </a:prstGeom>
          <a:ln w="36000">
            <a:solidFill>
              <a:srgbClr val="eb613d"/>
            </a:solidFill>
            <a:round/>
          </a:ln>
        </p:spPr>
      </p:cxnSp>
      <p:sp>
        <p:nvSpPr>
          <p:cNvPr id="357" name="Freeform 4"/>
          <p:cNvSpPr/>
          <p:nvPr/>
        </p:nvSpPr>
        <p:spPr>
          <a:xfrm>
            <a:off x="3243240" y="5796000"/>
            <a:ext cx="1800360" cy="107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НС, МО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8" name="AutoShape 15"/>
          <p:cNvCxnSpPr>
            <a:stCxn id="342" idx="3"/>
          </p:cNvCxnSpPr>
          <p:nvPr/>
        </p:nvCxnSpPr>
        <p:spPr>
          <a:xfrm rot="5400000">
            <a:off x="4139640" y="5040360"/>
            <a:ext cx="900720" cy="900720"/>
          </a:xfrm>
          <a:prstGeom prst="bentConnector3">
            <a:avLst>
              <a:gd name="adj1" fmla="val 49980"/>
            </a:avLst>
          </a:prstGeom>
          <a:ln w="36000">
            <a:solidFill>
              <a:srgbClr val="eb613d"/>
            </a:solidFill>
            <a:round/>
          </a:ln>
        </p:spPr>
      </p:cxnSp>
      <p:sp>
        <p:nvSpPr>
          <p:cNvPr id="359" name="Freeform 4"/>
          <p:cNvSpPr/>
          <p:nvPr/>
        </p:nvSpPr>
        <p:spPr>
          <a:xfrm>
            <a:off x="5508720" y="5796000"/>
            <a:ext cx="1800000" cy="107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ы АФА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15"/>
          <p:cNvCxnSpPr/>
          <p:nvPr/>
        </p:nvCxnSpPr>
        <p:spPr>
          <a:xfrm flipH="1" rot="16200000">
            <a:off x="5179680" y="5180400"/>
            <a:ext cx="950040" cy="570600"/>
          </a:xfrm>
          <a:prstGeom prst="bentConnector3">
            <a:avLst>
              <a:gd name="adj1" fmla="val 50000"/>
            </a:avLst>
          </a:prstGeom>
          <a:ln w="36000">
            <a:solidFill>
              <a:srgbClr val="eb613d"/>
            </a:solidFill>
            <a:round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"/>
          <p:cNvSpPr/>
          <p:nvPr/>
        </p:nvSpPr>
        <p:spPr>
          <a:xfrm>
            <a:off x="1832040" y="360360"/>
            <a:ext cx="734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Общие свойства хранимых классов базы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"/>
          <p:cNvGrpSpPr/>
          <p:nvPr/>
        </p:nvGrpSpPr>
        <p:grpSpPr>
          <a:xfrm>
            <a:off x="931680" y="2120760"/>
            <a:ext cx="506160" cy="1298520"/>
            <a:chOff x="931680" y="2120760"/>
            <a:chExt cx="506160" cy="1298520"/>
          </a:xfrm>
        </p:grpSpPr>
        <p:sp>
          <p:nvSpPr>
            <p:cNvPr id="367" name="AutoShape 5"/>
            <p:cNvSpPr/>
            <p:nvPr/>
          </p:nvSpPr>
          <p:spPr>
            <a:xfrm>
              <a:off x="961920" y="212076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1175400" y="26391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936360" y="27694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 flipH="1">
              <a:off x="931680" y="3157560"/>
              <a:ext cx="2480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 flipH="1" flipV="1">
              <a:off x="1168920" y="3151440"/>
              <a:ext cx="2480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AutoShape 11"/>
          <p:cNvSpPr/>
          <p:nvPr/>
        </p:nvSpPr>
        <p:spPr>
          <a:xfrm>
            <a:off x="4498920" y="2160720"/>
            <a:ext cx="2160720" cy="664920"/>
          </a:xfrm>
          <a:prstGeom prst="wedgeRoundRectCallout">
            <a:avLst>
              <a:gd name="adj1" fmla="val -109833"/>
              <a:gd name="adj2" fmla="val 161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Сохранение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Прямая со стрелкой 2"/>
          <p:cNvCxnSpPr>
            <a:stCxn id="369" idx="0"/>
          </p:cNvCxnSpPr>
          <p:nvPr/>
        </p:nvCxnSpPr>
        <p:spPr>
          <a:xfrm>
            <a:off x="1412640" y="2769840"/>
            <a:ext cx="3871080" cy="1802520"/>
          </a:xfrm>
          <a:prstGeom prst="straightConnector1">
            <a:avLst/>
          </a:prstGeom>
          <a:ln w="34920">
            <a:solidFill>
              <a:srgbClr val="000000"/>
            </a:solidFill>
            <a:prstDash val="dash"/>
            <a:miter/>
            <a:tailEnd len="lg" type="stealth" w="lg"/>
          </a:ln>
        </p:spPr>
      </p:cxnSp>
      <p:pic>
        <p:nvPicPr>
          <p:cNvPr id="374" name="Picture 13" descr=""/>
          <p:cNvPicPr/>
          <p:nvPr/>
        </p:nvPicPr>
        <p:blipFill>
          <a:blip r:embed="rId2"/>
          <a:stretch/>
        </p:blipFill>
        <p:spPr>
          <a:xfrm>
            <a:off x="2016000" y="4538520"/>
            <a:ext cx="67500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"/>
          <p:cNvSpPr/>
          <p:nvPr/>
        </p:nvSpPr>
        <p:spPr>
          <a:xfrm>
            <a:off x="1832040" y="360360"/>
            <a:ext cx="734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Общие свойства хранимых классов базы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1285920" y="3338640"/>
            <a:ext cx="506160" cy="1297800"/>
            <a:chOff x="1285920" y="3338640"/>
            <a:chExt cx="506160" cy="1297800"/>
          </a:xfrm>
        </p:grpSpPr>
        <p:sp>
          <p:nvSpPr>
            <p:cNvPr id="378" name="AutoShape 5"/>
            <p:cNvSpPr/>
            <p:nvPr/>
          </p:nvSpPr>
          <p:spPr>
            <a:xfrm>
              <a:off x="1315800" y="333864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1529640" y="38570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>
              <a:off x="1290240" y="398700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 flipH="1">
              <a:off x="1285920" y="43754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 flipH="1" flipV="1">
              <a:off x="1523520" y="4368960"/>
              <a:ext cx="24840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Группа 12"/>
          <p:cNvGrpSpPr/>
          <p:nvPr/>
        </p:nvGrpSpPr>
        <p:grpSpPr>
          <a:xfrm>
            <a:off x="5398920" y="2295360"/>
            <a:ext cx="2919600" cy="1125720"/>
            <a:chOff x="5398920" y="2295360"/>
            <a:chExt cx="2919600" cy="1125720"/>
          </a:xfrm>
        </p:grpSpPr>
        <p:sp>
          <p:nvSpPr>
            <p:cNvPr id="384" name="Прямоугольник 13"/>
            <p:cNvSpPr/>
            <p:nvPr/>
          </p:nvSpPr>
          <p:spPr>
            <a:xfrm>
              <a:off x="5398920" y="2520360"/>
              <a:ext cx="2919600" cy="90072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2060"/>
                  </a:solidFill>
                  <a:latin typeface="Arial"/>
                </a:rPr>
                <a:t>Механизм конвертирования значений свой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оугольник 14"/>
            <p:cNvSpPr/>
            <p:nvPr/>
          </p:nvSpPr>
          <p:spPr>
            <a:xfrm>
              <a:off x="7223760" y="2295360"/>
              <a:ext cx="1094760" cy="2250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AutoShape 3"/>
          <p:cNvSpPr/>
          <p:nvPr/>
        </p:nvSpPr>
        <p:spPr>
          <a:xfrm>
            <a:off x="2879640" y="5219640"/>
            <a:ext cx="5294520" cy="126036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Стрелка вправо 20"/>
          <p:cNvSpPr/>
          <p:nvPr/>
        </p:nvSpPr>
        <p:spPr>
          <a:xfrm rot="20480400">
            <a:off x="1881360" y="2958840"/>
            <a:ext cx="3562200" cy="865080"/>
          </a:xfrm>
          <a:prstGeom prst="rightArrow">
            <a:avLst>
              <a:gd name="adj1" fmla="val 50000"/>
              <a:gd name="adj2" fmla="val 4994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b~C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Y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12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Выноска со стрелкой вниз 3"/>
          <p:cNvSpPr/>
          <p:nvPr/>
        </p:nvSpPr>
        <p:spPr>
          <a:xfrm>
            <a:off x="5654520" y="3564000"/>
            <a:ext cx="2303640" cy="1584360"/>
          </a:xfrm>
          <a:prstGeom prst="downArrowCallout">
            <a:avLst>
              <a:gd name="adj1" fmla="val 24989"/>
              <a:gd name="adj2" fmla="val 24987"/>
              <a:gd name="adj3" fmla="val 25000"/>
              <a:gd name="adj4" fmla="val 6497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АВСНУ12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1"/>
          <p:cNvSpPr/>
          <p:nvPr/>
        </p:nvSpPr>
        <p:spPr>
          <a:xfrm>
            <a:off x="6767640" y="234000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6767640" y="287964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6767640" y="2405160"/>
            <a:ext cx="2879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6767640" y="525636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7415280" y="5327640"/>
            <a:ext cx="161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6767640" y="575928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539640" y="1979640"/>
            <a:ext cx="4140360" cy="1440000"/>
          </a:xfrm>
          <a:prstGeom prst="wedgeRoundRectCallout">
            <a:avLst>
              <a:gd name="adj1" fmla="val 100726"/>
              <a:gd name="adj2" fmla="val 2730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ущее состояние объекта – сведения об объекте на данный момент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Изменение текущего состояния объекта возможно ТОЛЬКО с помощью НОВОЙ оп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620640" y="4878360"/>
            <a:ext cx="3240000" cy="1440000"/>
          </a:xfrm>
          <a:prstGeom prst="wedgeRoundRectCallout">
            <a:avLst>
              <a:gd name="adj1" fmla="val 141134"/>
              <a:gd name="adj2" fmla="val 1192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ерации – полные сведения о совершенных регистрационных действиях с объек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Операции с объектом НИКОГДА НЕ УДАЛЯЮ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7128000" y="3959280"/>
            <a:ext cx="0" cy="1297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2"/>
          <p:cNvSpPr/>
          <p:nvPr/>
        </p:nvSpPr>
        <p:spPr>
          <a:xfrm flipV="1">
            <a:off x="9286920" y="3954240"/>
            <a:ext cx="1440" cy="1269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1079640" y="360036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 оп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140360" y="3780000"/>
            <a:ext cx="50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1079640" y="431964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опе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V="1">
            <a:off x="4140360" y="4498920"/>
            <a:ext cx="28796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7"/>
          <p:cNvSpPr/>
          <p:nvPr/>
        </p:nvSpPr>
        <p:spPr>
          <a:xfrm>
            <a:off x="3419640" y="6480000"/>
            <a:ext cx="2700000" cy="900360"/>
          </a:xfrm>
          <a:prstGeom prst="wedgeRectCallout">
            <a:avLst>
              <a:gd name="adj1" fmla="val 96527"/>
              <a:gd name="adj2" fmla="val -29171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ановка на уч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е характерист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ятие с у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2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6769080" y="234000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6769080" y="287964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769080" y="2405160"/>
            <a:ext cx="2879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6769080" y="525636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7415280" y="5327640"/>
            <a:ext cx="161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6769080" y="575928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7129440" y="3959280"/>
            <a:ext cx="1440" cy="12603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 flipV="1">
            <a:off x="9286920" y="3954240"/>
            <a:ext cx="1440" cy="1269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1"/>
          <p:cNvSpPr/>
          <p:nvPr/>
        </p:nvSpPr>
        <p:spPr>
          <a:xfrm>
            <a:off x="1079640" y="2160720"/>
            <a:ext cx="4319280" cy="1079280"/>
          </a:xfrm>
          <a:prstGeom prst="wedgeRectCallout">
            <a:avLst>
              <a:gd name="adj1" fmla="val 83476"/>
              <a:gd name="adj2" fmla="val 12041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buSzPct val="10281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, характеризующие 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1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 о подразделении, ведущем учет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>
            <a:off x="1079640" y="3600360"/>
            <a:ext cx="4500360" cy="3419640"/>
          </a:xfrm>
          <a:prstGeom prst="wedgeRectCallout">
            <a:avLst>
              <a:gd name="adj1" fmla="val 75990"/>
              <a:gd name="adj2" fmla="val 6990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buSzPct val="102812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арактеристики объекта, которые он приобрёл после совершения данной оп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12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 о подразделении, ведущем учет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12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, характеризующие совершённое действие с объек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хнологическая опе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ата оп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9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Подразделение-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д ответственного исполн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SzPct val="102812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д опера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Группа 2"/>
          <p:cNvGrpSpPr/>
          <p:nvPr/>
        </p:nvGrpSpPr>
        <p:grpSpPr>
          <a:xfrm>
            <a:off x="6769080" y="2562120"/>
            <a:ext cx="2517840" cy="1397160"/>
            <a:chOff x="6769080" y="2562120"/>
            <a:chExt cx="2517840" cy="1397160"/>
          </a:xfrm>
        </p:grpSpPr>
        <p:sp>
          <p:nvSpPr>
            <p:cNvPr id="424" name="AutoShape 3"/>
            <p:cNvSpPr/>
            <p:nvPr/>
          </p:nvSpPr>
          <p:spPr>
            <a:xfrm>
              <a:off x="6769080" y="2562120"/>
              <a:ext cx="2517840" cy="139716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4"/>
            <p:cNvSpPr/>
            <p:nvPr/>
          </p:nvSpPr>
          <p:spPr>
            <a:xfrm>
              <a:off x="6769080" y="3027600"/>
              <a:ext cx="2517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5"/>
            <p:cNvSpPr/>
            <p:nvPr/>
          </p:nvSpPr>
          <p:spPr>
            <a:xfrm>
              <a:off x="6769080" y="2618280"/>
              <a:ext cx="25178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кущее состоя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Группа 3"/>
          <p:cNvGrpSpPr/>
          <p:nvPr/>
        </p:nvGrpSpPr>
        <p:grpSpPr>
          <a:xfrm>
            <a:off x="6769080" y="4924440"/>
            <a:ext cx="2664000" cy="1951200"/>
            <a:chOff x="6769080" y="4924440"/>
            <a:chExt cx="2664000" cy="1951200"/>
          </a:xfrm>
        </p:grpSpPr>
        <p:sp>
          <p:nvSpPr>
            <p:cNvPr id="428" name="AutoShape 6"/>
            <p:cNvSpPr/>
            <p:nvPr/>
          </p:nvSpPr>
          <p:spPr>
            <a:xfrm>
              <a:off x="6769080" y="4924440"/>
              <a:ext cx="2664000" cy="195120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7"/>
            <p:cNvSpPr/>
            <p:nvPr/>
          </p:nvSpPr>
          <p:spPr>
            <a:xfrm>
              <a:off x="7366680" y="5010480"/>
              <a:ext cx="14979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8"/>
            <p:cNvSpPr/>
            <p:nvPr/>
          </p:nvSpPr>
          <p:spPr>
            <a:xfrm>
              <a:off x="6769080" y="5530680"/>
              <a:ext cx="266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Line 9"/>
          <p:cNvSpPr/>
          <p:nvPr/>
        </p:nvSpPr>
        <p:spPr>
          <a:xfrm>
            <a:off x="7129440" y="3959280"/>
            <a:ext cx="1440" cy="9651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 flipV="1">
            <a:off x="9002880" y="3954600"/>
            <a:ext cx="0" cy="96984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Группа 4"/>
          <p:cNvGrpSpPr/>
          <p:nvPr/>
        </p:nvGrpSpPr>
        <p:grpSpPr>
          <a:xfrm>
            <a:off x="3060720" y="4067280"/>
            <a:ext cx="2700360" cy="928440"/>
            <a:chOff x="3060720" y="4067280"/>
            <a:chExt cx="2700360" cy="928440"/>
          </a:xfrm>
        </p:grpSpPr>
        <p:sp>
          <p:nvSpPr>
            <p:cNvPr id="434" name="AutoShape 11"/>
            <p:cNvSpPr/>
            <p:nvPr/>
          </p:nvSpPr>
          <p:spPr>
            <a:xfrm>
              <a:off x="3060720" y="4067280"/>
              <a:ext cx="2700360" cy="92844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3060720" y="4717080"/>
              <a:ext cx="270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3"/>
            <p:cNvSpPr/>
            <p:nvPr/>
          </p:nvSpPr>
          <p:spPr>
            <a:xfrm>
              <a:off x="3060720" y="4123080"/>
              <a:ext cx="270036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нтроллер операций с объект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"/>
          <p:cNvGrpSpPr/>
          <p:nvPr/>
        </p:nvGrpSpPr>
        <p:grpSpPr>
          <a:xfrm>
            <a:off x="2268360" y="2340000"/>
            <a:ext cx="2988000" cy="900000"/>
            <a:chOff x="2268360" y="2340000"/>
            <a:chExt cx="2988000" cy="900000"/>
          </a:xfrm>
        </p:grpSpPr>
        <p:sp>
          <p:nvSpPr>
            <p:cNvPr id="438" name="AutoShape 14"/>
            <p:cNvSpPr/>
            <p:nvPr/>
          </p:nvSpPr>
          <p:spPr>
            <a:xfrm>
              <a:off x="2268360" y="2340000"/>
              <a:ext cx="2988000" cy="90000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2268360" y="2999160"/>
              <a:ext cx="2988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16"/>
            <p:cNvSpPr/>
            <p:nvPr/>
          </p:nvSpPr>
          <p:spPr>
            <a:xfrm>
              <a:off x="2268360" y="2394000"/>
              <a:ext cx="2988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3333"/>
                  </a:solidFill>
                  <a:latin typeface="Arial"/>
                </a:rPr>
                <a:t>Исходные данные для регистрации опер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17"/>
          <p:cNvGrpSpPr/>
          <p:nvPr/>
        </p:nvGrpSpPr>
        <p:grpSpPr>
          <a:xfrm>
            <a:off x="900000" y="3379680"/>
            <a:ext cx="506160" cy="1297800"/>
            <a:chOff x="900000" y="3379680"/>
            <a:chExt cx="506160" cy="1297800"/>
          </a:xfrm>
        </p:grpSpPr>
        <p:sp>
          <p:nvSpPr>
            <p:cNvPr id="442" name="AutoShape 18"/>
            <p:cNvSpPr/>
            <p:nvPr/>
          </p:nvSpPr>
          <p:spPr>
            <a:xfrm>
              <a:off x="929880" y="337968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1143720" y="38980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904320" y="402804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1"/>
            <p:cNvSpPr/>
            <p:nvPr/>
          </p:nvSpPr>
          <p:spPr>
            <a:xfrm flipH="1">
              <a:off x="900000" y="44164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2"/>
            <p:cNvSpPr/>
            <p:nvPr/>
          </p:nvSpPr>
          <p:spPr>
            <a:xfrm flipH="1" flipV="1">
              <a:off x="1136880" y="441000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Line 23"/>
          <p:cNvSpPr/>
          <p:nvPr/>
        </p:nvSpPr>
        <p:spPr>
          <a:xfrm>
            <a:off x="1440000" y="3959280"/>
            <a:ext cx="1620720" cy="63036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24"/>
          <p:cNvSpPr/>
          <p:nvPr/>
        </p:nvSpPr>
        <p:spPr>
          <a:xfrm flipH="1">
            <a:off x="2249280" y="3240000"/>
            <a:ext cx="2252520" cy="917640"/>
          </a:xfrm>
          <a:prstGeom prst="line">
            <a:avLst/>
          </a:prstGeom>
          <a:ln w="36000">
            <a:solidFill>
              <a:srgbClr val="404040"/>
            </a:solidFill>
            <a:prstDash val="sys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3"/>
          <p:cNvSpPr/>
          <p:nvPr/>
        </p:nvSpPr>
        <p:spPr>
          <a:xfrm>
            <a:off x="5772240" y="4718160"/>
            <a:ext cx="996840" cy="107784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 flipV="1">
            <a:off x="5772240" y="3239640"/>
            <a:ext cx="996840" cy="10177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Группа 33"/>
          <p:cNvGrpSpPr/>
          <p:nvPr/>
        </p:nvGrpSpPr>
        <p:grpSpPr>
          <a:xfrm>
            <a:off x="3040200" y="5734080"/>
            <a:ext cx="2700360" cy="928800"/>
            <a:chOff x="3040200" y="5734080"/>
            <a:chExt cx="2700360" cy="928800"/>
          </a:xfrm>
        </p:grpSpPr>
        <p:sp>
          <p:nvSpPr>
            <p:cNvPr id="452" name="AutoShape 11"/>
            <p:cNvSpPr/>
            <p:nvPr/>
          </p:nvSpPr>
          <p:spPr>
            <a:xfrm>
              <a:off x="3040200" y="5734080"/>
              <a:ext cx="2700360" cy="92880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2"/>
            <p:cNvSpPr/>
            <p:nvPr/>
          </p:nvSpPr>
          <p:spPr>
            <a:xfrm>
              <a:off x="3040200" y="6384240"/>
              <a:ext cx="270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3040200" y="5789880"/>
              <a:ext cx="27003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еханизм проверки прав подразделе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5" name="Прямая со стрелкой 6"/>
          <p:cNvCxnSpPr>
            <a:stCxn id="434" idx="2"/>
            <a:endCxn id="452" idx="0"/>
          </p:cNvCxnSpPr>
          <p:nvPr/>
        </p:nvCxnSpPr>
        <p:spPr>
          <a:xfrm flipH="1">
            <a:off x="4389120" y="4995360"/>
            <a:ext cx="20880" cy="739080"/>
          </a:xfrm>
          <a:prstGeom prst="straightConnector1">
            <a:avLst/>
          </a:prstGeom>
          <a:ln w="604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2"/>
          <p:cNvSpPr/>
          <p:nvPr/>
        </p:nvSpPr>
        <p:spPr>
          <a:xfrm>
            <a:off x="93204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992160" y="1547640"/>
            <a:ext cx="855648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0000" y="175680"/>
            <a:ext cx="806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Учётный механизм информации регионального уровня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3"/>
          <p:cNvSpPr/>
          <p:nvPr/>
        </p:nvSpPr>
        <p:spPr>
          <a:xfrm>
            <a:off x="539640" y="197964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Текущее состояние объекта может изменяться ТОЛЬКО на основе данных операции. Процесс изменения текущего состояния объекта на основе операции называется РЕГИСТРАЦИЕЙ ОПЕРАЦИИ С объект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гистрация операции с объектом включает в себ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Идентификацию объекта опер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Проверку прав подразделения на совершение опер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Определение местоположения опер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Определение необходимости изменения текущего состояния объ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Модификацию, при необходимости, текущих характеристик объ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Определение состояния объ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Установка связи с другими объектами учё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1"/>
          <p:cNvSpPr/>
          <p:nvPr/>
        </p:nvSpPr>
        <p:spPr>
          <a:xfrm>
            <a:off x="6975360" y="248112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хранения состояний объектов, не являющихся объектами учё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6975360" y="30211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6975360" y="2546280"/>
            <a:ext cx="288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6975360" y="539748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7048440" y="5468760"/>
            <a:ext cx="2700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и объ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6975360" y="6188040"/>
            <a:ext cx="288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9"/>
          <p:cNvSpPr/>
          <p:nvPr/>
        </p:nvSpPr>
        <p:spPr>
          <a:xfrm>
            <a:off x="1827360" y="5541840"/>
            <a:ext cx="3600360" cy="900360"/>
          </a:xfrm>
          <a:prstGeom prst="wedgeRoundRectCallout">
            <a:avLst>
              <a:gd name="adj1" fmla="val 93254"/>
              <a:gd name="adj2" fmla="val -1349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едения об объекте на некоторый момент врем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7335720" y="4100400"/>
            <a:ext cx="1800" cy="1260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1"/>
          <p:cNvSpPr/>
          <p:nvPr/>
        </p:nvSpPr>
        <p:spPr>
          <a:xfrm flipV="1">
            <a:off x="9495000" y="40957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4707000" y="3741840"/>
            <a:ext cx="18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5967360" y="4100400"/>
            <a:ext cx="34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3267000" y="4460760"/>
            <a:ext cx="360036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5427720" y="4821120"/>
            <a:ext cx="180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16"/>
          <p:cNvSpPr/>
          <p:nvPr/>
        </p:nvSpPr>
        <p:spPr>
          <a:xfrm>
            <a:off x="568440" y="2046240"/>
            <a:ext cx="4500360" cy="1619280"/>
          </a:xfrm>
          <a:prstGeom prst="wedgeRoundRectCallout">
            <a:avLst>
              <a:gd name="adj1" fmla="val 92597"/>
              <a:gd name="adj2" fmla="val 314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изменении любого значения ВСЕГДА автоматически создаётся новый полный набор характеристик, которые становятся текущ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этом прежний набор характеристик не измен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хранения состояний объектов, не являющихся объектами учё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18" descr=""/>
          <p:cNvPicPr/>
          <p:nvPr/>
        </p:nvPicPr>
        <p:blipFill>
          <a:blip r:embed="rId2"/>
          <a:stretch/>
        </p:blipFill>
        <p:spPr>
          <a:xfrm>
            <a:off x="1027080" y="2266920"/>
            <a:ext cx="828036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2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47640" y="295272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дартный каталог обработки входящи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47640" y="381636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й каталог обработки входящи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594560" y="5759280"/>
            <a:ext cx="21607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файлов, обработка которых невозмож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7559640" y="3971880"/>
            <a:ext cx="216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обработанных  файлов от ФИ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7559640" y="2952720"/>
            <a:ext cx="216072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приоритетно обработанных ф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7559640" y="2160720"/>
            <a:ext cx="216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ий каталог обработанных  ф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7559640" y="4751280"/>
            <a:ext cx="2160720" cy="9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предварительно обработанных  фай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887640" y="2519280"/>
            <a:ext cx="2160720" cy="9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файлов с результатами обрабо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7" name="AutoShape 12"/>
          <p:cNvCxnSpPr>
            <a:stCxn id="489" idx="3"/>
            <a:endCxn id="498" idx="1"/>
          </p:cNvCxnSpPr>
          <p:nvPr/>
        </p:nvCxnSpPr>
        <p:spPr>
          <a:xfrm>
            <a:off x="2808360" y="3313080"/>
            <a:ext cx="867600" cy="1432800"/>
          </a:xfrm>
          <a:prstGeom prst="bentConnector3">
            <a:avLst>
              <a:gd name="adj1" fmla="val 49979"/>
            </a:avLst>
          </a:prstGeom>
          <a:ln w="36000">
            <a:solidFill>
              <a:srgbClr val="333366"/>
            </a:solidFill>
            <a:round/>
            <a:tailEnd len="med" type="stealth" w="med"/>
          </a:ln>
        </p:spPr>
      </p:cxnSp>
      <p:cxnSp>
        <p:nvCxnSpPr>
          <p:cNvPr id="499" name="AutoShape 13"/>
          <p:cNvCxnSpPr>
            <a:stCxn id="490" idx="3"/>
            <a:endCxn id="498" idx="1"/>
          </p:cNvCxnSpPr>
          <p:nvPr/>
        </p:nvCxnSpPr>
        <p:spPr>
          <a:xfrm>
            <a:off x="2808360" y="4176360"/>
            <a:ext cx="867600" cy="568800"/>
          </a:xfrm>
          <a:prstGeom prst="bentConnector3">
            <a:avLst>
              <a:gd name="adj1" fmla="val 49979"/>
            </a:avLst>
          </a:prstGeom>
          <a:ln w="36000">
            <a:solidFill>
              <a:srgbClr val="333366"/>
            </a:solidFill>
            <a:round/>
            <a:tailEnd len="med" type="stealth" w="med"/>
          </a:ln>
        </p:spPr>
      </p:cxnSp>
      <p:cxnSp>
        <p:nvCxnSpPr>
          <p:cNvPr id="500" name="AutoShape 14"/>
          <p:cNvCxnSpPr>
            <a:stCxn id="498" idx="3"/>
            <a:endCxn id="491" idx="1"/>
          </p:cNvCxnSpPr>
          <p:nvPr/>
        </p:nvCxnSpPr>
        <p:spPr>
          <a:xfrm>
            <a:off x="6270480" y="4745160"/>
            <a:ext cx="1324800" cy="1375200"/>
          </a:xfrm>
          <a:prstGeom prst="bentConnector3">
            <a:avLst>
              <a:gd name="adj1" fmla="val 36450"/>
            </a:avLst>
          </a:prstGeom>
          <a:ln w="36000">
            <a:solidFill>
              <a:srgbClr val="ff0000"/>
            </a:solidFill>
            <a:round/>
            <a:tailEnd len="med" type="stealth" w="med"/>
          </a:ln>
        </p:spPr>
      </p:cxnSp>
      <p:cxnSp>
        <p:nvCxnSpPr>
          <p:cNvPr id="501" name="AutoShape 15"/>
          <p:cNvCxnSpPr>
            <a:stCxn id="498" idx="3"/>
            <a:endCxn id="494" idx="1"/>
          </p:cNvCxnSpPr>
          <p:nvPr/>
        </p:nvCxnSpPr>
        <p:spPr>
          <a:xfrm flipV="1">
            <a:off x="6270120" y="2520720"/>
            <a:ext cx="1289880" cy="222480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2" name="AutoShape 16"/>
          <p:cNvCxnSpPr>
            <a:stCxn id="498" idx="3"/>
            <a:endCxn id="493" idx="1"/>
          </p:cNvCxnSpPr>
          <p:nvPr/>
        </p:nvCxnSpPr>
        <p:spPr>
          <a:xfrm flipV="1">
            <a:off x="6270120" y="3402720"/>
            <a:ext cx="1289880" cy="134244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3" name="AutoShape 17"/>
          <p:cNvCxnSpPr>
            <a:stCxn id="498" idx="3"/>
            <a:endCxn id="495" idx="1"/>
          </p:cNvCxnSpPr>
          <p:nvPr/>
        </p:nvCxnSpPr>
        <p:spPr>
          <a:xfrm>
            <a:off x="6270120" y="4745160"/>
            <a:ext cx="1289880" cy="45792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4" name="AutoShape 18"/>
          <p:cNvCxnSpPr>
            <a:stCxn id="498" idx="3"/>
            <a:endCxn id="492" idx="1"/>
          </p:cNvCxnSpPr>
          <p:nvPr/>
        </p:nvCxnSpPr>
        <p:spPr>
          <a:xfrm flipV="1">
            <a:off x="6270120" y="4331520"/>
            <a:ext cx="1289880" cy="413640"/>
          </a:xfrm>
          <a:prstGeom prst="bentConnector3">
            <a:avLst>
              <a:gd name="adj1" fmla="val 50000"/>
            </a:avLst>
          </a:prstGeom>
          <a:ln w="36000">
            <a:solidFill>
              <a:srgbClr val="ff00ff"/>
            </a:solidFill>
            <a:round/>
            <a:tailEnd len="med" type="stealth" w="med"/>
          </a:ln>
        </p:spPr>
      </p:cxnSp>
      <p:cxnSp>
        <p:nvCxnSpPr>
          <p:cNvPr id="505" name="AutoShape 19"/>
          <p:cNvCxnSpPr>
            <a:stCxn id="498" idx="0"/>
            <a:endCxn id="496" idx="2"/>
          </p:cNvCxnSpPr>
          <p:nvPr/>
        </p:nvCxnSpPr>
        <p:spPr>
          <a:xfrm flipV="1" rot="16200000">
            <a:off x="4592160" y="3794760"/>
            <a:ext cx="757800" cy="5760"/>
          </a:xfrm>
          <a:prstGeom prst="bentConnector3">
            <a:avLst>
              <a:gd name="adj1" fmla="val 50000"/>
            </a:avLst>
          </a:prstGeom>
          <a:ln w="36000">
            <a:solidFill>
              <a:srgbClr val="008000"/>
            </a:solidFill>
            <a:round/>
            <a:tailEnd len="med" type="stealth" w="med"/>
          </a:ln>
        </p:spPr>
      </p:cxnSp>
      <p:sp>
        <p:nvSpPr>
          <p:cNvPr id="506" name="AutoShape 20"/>
          <p:cNvSpPr/>
          <p:nvPr/>
        </p:nvSpPr>
        <p:spPr>
          <a:xfrm>
            <a:off x="4140360" y="6300720"/>
            <a:ext cx="3060720" cy="900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4827600" y="6338880"/>
            <a:ext cx="17208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>
            <a:off x="4140360" y="6723000"/>
            <a:ext cx="306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5040360" y="5313240"/>
            <a:ext cx="360360" cy="986040"/>
          </a:xfrm>
          <a:prstGeom prst="downArrow">
            <a:avLst>
              <a:gd name="adj1" fmla="val 50000"/>
              <a:gd name="adj2" fmla="val 7494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4"/>
          <p:cNvSpPr/>
          <p:nvPr/>
        </p:nvSpPr>
        <p:spPr>
          <a:xfrm>
            <a:off x="720720" y="5040360"/>
            <a:ext cx="2700360" cy="1619280"/>
          </a:xfrm>
          <a:prstGeom prst="wedgeRoundRectCallout">
            <a:avLst>
              <a:gd name="adj1" fmla="val 44370"/>
              <a:gd name="adj2" fmla="val -6539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канирование входных каталогов и обработка файлов выполняются сервером автоматически независимыми процесс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6" descr=""/>
          <p:cNvPicPr/>
          <p:nvPr/>
        </p:nvPicPr>
        <p:blipFill>
          <a:blip r:embed="rId2"/>
          <a:stretch/>
        </p:blipFill>
        <p:spPr>
          <a:xfrm>
            <a:off x="3675240" y="4176720"/>
            <a:ext cx="259524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4"/>
          <p:cNvGrpSpPr/>
          <p:nvPr/>
        </p:nvGrpSpPr>
        <p:grpSpPr>
          <a:xfrm>
            <a:off x="6872400" y="5900760"/>
            <a:ext cx="505800" cy="1298160"/>
            <a:chOff x="6872400" y="5900760"/>
            <a:chExt cx="505800" cy="1298160"/>
          </a:xfrm>
        </p:grpSpPr>
        <p:sp>
          <p:nvSpPr>
            <p:cNvPr id="515" name="AutoShape 5"/>
            <p:cNvSpPr/>
            <p:nvPr/>
          </p:nvSpPr>
          <p:spPr>
            <a:xfrm>
              <a:off x="6902280" y="5900760"/>
              <a:ext cx="475920" cy="517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7115760" y="64198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7"/>
            <p:cNvSpPr/>
            <p:nvPr/>
          </p:nvSpPr>
          <p:spPr>
            <a:xfrm>
              <a:off x="6877080" y="655020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 flipH="1">
              <a:off x="6872400" y="6939000"/>
              <a:ext cx="24840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 flipH="1" flipV="1">
              <a:off x="7109280" y="6930720"/>
              <a:ext cx="2480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Line 10"/>
          <p:cNvSpPr/>
          <p:nvPr/>
        </p:nvSpPr>
        <p:spPr>
          <a:xfrm flipH="1" flipV="1">
            <a:off x="4535280" y="5003640"/>
            <a:ext cx="2306520" cy="14781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11"/>
          <p:cNvSpPr/>
          <p:nvPr/>
        </p:nvSpPr>
        <p:spPr>
          <a:xfrm>
            <a:off x="2808360" y="6153120"/>
            <a:ext cx="2160360" cy="647640"/>
          </a:xfrm>
          <a:prstGeom prst="wedgeRectCallout">
            <a:avLst>
              <a:gd name="adj1" fmla="val 93796"/>
              <a:gd name="adj2" fmla="val -85930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95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и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95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ботать повтор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95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дали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13" descr=""/>
          <p:cNvPicPr/>
          <p:nvPr/>
        </p:nvPicPr>
        <p:blipFill>
          <a:blip r:embed="rId5"/>
          <a:stretch/>
        </p:blipFill>
        <p:spPr>
          <a:xfrm>
            <a:off x="103320" y="1666800"/>
            <a:ext cx="10253520" cy="4575240"/>
          </a:xfrm>
          <a:prstGeom prst="rect">
            <a:avLst/>
          </a:prstGeom>
          <a:ln w="0">
            <a:noFill/>
          </a:ln>
        </p:spPr>
      </p:pic>
      <p:grpSp>
        <p:nvGrpSpPr>
          <p:cNvPr id="523" name="Группа 12"/>
          <p:cNvGrpSpPr/>
          <p:nvPr/>
        </p:nvGrpSpPr>
        <p:grpSpPr>
          <a:xfrm>
            <a:off x="6624720" y="4834080"/>
            <a:ext cx="2303280" cy="863280"/>
            <a:chOff x="6624720" y="4834080"/>
            <a:chExt cx="2303280" cy="863280"/>
          </a:xfrm>
        </p:grpSpPr>
        <p:sp>
          <p:nvSpPr>
            <p:cNvPr id="524" name="Прямоугольник 13"/>
            <p:cNvSpPr/>
            <p:nvPr/>
          </p:nvSpPr>
          <p:spPr>
            <a:xfrm>
              <a:off x="6624720" y="5006520"/>
              <a:ext cx="2303280" cy="6908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конвертирования данны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Прямоугольник 14"/>
            <p:cNvSpPr/>
            <p:nvPr/>
          </p:nvSpPr>
          <p:spPr>
            <a:xfrm>
              <a:off x="8064360" y="4834080"/>
              <a:ext cx="863640" cy="1724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2"/>
          <a:stretch/>
        </p:blipFill>
        <p:spPr>
          <a:xfrm>
            <a:off x="115920" y="1697040"/>
            <a:ext cx="102423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0360" y="114480"/>
            <a:ext cx="860904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обработки файлов формата обмена</a:t>
            </a:r>
            <a:br>
              <a:rPr sz="3600"/>
            </a:br>
            <a:r>
              <a:rPr b="1" lang="en-US" sz="2600" spc="-1" strike="noStrike" u="sng">
                <a:solidFill>
                  <a:srgbClr val="333333"/>
                </a:solidFill>
                <a:uFillTx/>
                <a:latin typeface="Constantia"/>
              </a:rPr>
              <a:t>(обработка файла)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41400" y="1528920"/>
            <a:ext cx="1000908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выгрузки данных в виде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720720" y="594036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дартный каталог обработки входящи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720720" y="306072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катал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4140360" y="5580000"/>
            <a:ext cx="4319280" cy="144000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ённая информацион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0" name="AutoShape 7"/>
          <p:cNvCxnSpPr>
            <a:stCxn id="537" idx="3"/>
            <a:endCxn id="539" idx="2"/>
          </p:cNvCxnSpPr>
          <p:nvPr/>
        </p:nvCxnSpPr>
        <p:spPr>
          <a:xfrm>
            <a:off x="2879640" y="6300360"/>
            <a:ext cx="1261440" cy="2520"/>
          </a:xfrm>
          <a:prstGeom prst="bentConnector3">
            <a:avLst>
              <a:gd name="adj1" fmla="val 49985"/>
            </a:avLst>
          </a:prstGeom>
          <a:ln w="36000">
            <a:solidFill>
              <a:srgbClr val="333366"/>
            </a:solidFill>
            <a:round/>
            <a:tailEnd len="med" type="stealth" w="med"/>
          </a:ln>
        </p:spPr>
      </p:cxnSp>
      <p:sp>
        <p:nvSpPr>
          <p:cNvPr id="541" name="Rectangle 8"/>
          <p:cNvSpPr/>
          <p:nvPr/>
        </p:nvSpPr>
        <p:spPr>
          <a:xfrm>
            <a:off x="720720" y="3959280"/>
            <a:ext cx="2160720" cy="72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лог переданных фай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2" name="AutoShape 9"/>
          <p:cNvCxnSpPr>
            <a:stCxn id="543" idx="1"/>
            <a:endCxn id="538" idx="3"/>
          </p:cNvCxnSpPr>
          <p:nvPr/>
        </p:nvCxnSpPr>
        <p:spPr>
          <a:xfrm rot="10800000">
            <a:off x="2880720" y="3420360"/>
            <a:ext cx="2159640" cy="189720"/>
          </a:xfrm>
          <a:prstGeom prst="bentConnector3">
            <a:avLst>
              <a:gd name="adj1" fmla="val 50000"/>
            </a:avLst>
          </a:prstGeom>
          <a:ln w="36000">
            <a:solidFill>
              <a:srgbClr val="008080"/>
            </a:solidFill>
            <a:round/>
            <a:tailEnd len="med" type="stealth" w="med"/>
          </a:ln>
        </p:spPr>
      </p:cxnSp>
      <p:cxnSp>
        <p:nvCxnSpPr>
          <p:cNvPr id="544" name="AutoShape 10"/>
          <p:cNvCxnSpPr>
            <a:stCxn id="543" idx="1"/>
            <a:endCxn id="541" idx="3"/>
          </p:cNvCxnSpPr>
          <p:nvPr/>
        </p:nvCxnSpPr>
        <p:spPr>
          <a:xfrm flipV="1" rot="10800000">
            <a:off x="2880720" y="3607920"/>
            <a:ext cx="2159640" cy="712080"/>
          </a:xfrm>
          <a:prstGeom prst="bentConnector3">
            <a:avLst>
              <a:gd name="adj1" fmla="val 50000"/>
            </a:avLst>
          </a:prstGeom>
          <a:ln w="36000">
            <a:solidFill>
              <a:srgbClr val="008080"/>
            </a:solidFill>
            <a:round/>
            <a:tailEnd len="med" type="stealth" w="med"/>
          </a:ln>
        </p:spPr>
      </p:cxnSp>
      <p:cxnSp>
        <p:nvCxnSpPr>
          <p:cNvPr id="545" name="AutoShape 11"/>
          <p:cNvCxnSpPr>
            <a:stCxn id="543" idx="2"/>
            <a:endCxn id="537" idx="0"/>
          </p:cNvCxnSpPr>
          <p:nvPr/>
        </p:nvCxnSpPr>
        <p:spPr>
          <a:xfrm rot="5400000">
            <a:off x="3763800" y="2635920"/>
            <a:ext cx="1342080" cy="5267880"/>
          </a:xfrm>
          <a:prstGeom prst="bentConnector3">
            <a:avLst>
              <a:gd name="adj1" fmla="val 49986"/>
            </a:avLst>
          </a:prstGeom>
          <a:ln w="36000">
            <a:solidFill>
              <a:srgbClr val="cc6633"/>
            </a:solidFill>
            <a:prstDash val="sysDot"/>
            <a:round/>
            <a:tailEnd len="med" type="stealth" w="med"/>
          </a:ln>
        </p:spPr>
      </p:cxnSp>
      <p:sp>
        <p:nvSpPr>
          <p:cNvPr id="546" name="AutoShape 12"/>
          <p:cNvSpPr/>
          <p:nvPr/>
        </p:nvSpPr>
        <p:spPr>
          <a:xfrm>
            <a:off x="900000" y="1979640"/>
            <a:ext cx="3959280" cy="900000"/>
          </a:xfrm>
          <a:prstGeom prst="wedgeRoundRectCallout">
            <a:avLst>
              <a:gd name="adj1" fmla="val 57976"/>
              <a:gd name="adj2" fmla="val 11166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полнение выгрузки осуществляется отдельным серверным процесс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4" descr=""/>
          <p:cNvPicPr/>
          <p:nvPr/>
        </p:nvPicPr>
        <p:blipFill>
          <a:blip r:embed="rId2"/>
          <a:stretch/>
        </p:blipFill>
        <p:spPr>
          <a:xfrm>
            <a:off x="5040360" y="2619360"/>
            <a:ext cx="4056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выгрузки данных в виде файлов формата обме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71280" y="1979640"/>
            <a:ext cx="937584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on-line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0480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</a:t>
            </a: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on-line </a:t>
            </a: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передачи данных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936720" y="2195640"/>
            <a:ext cx="8412120" cy="394308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17"/>
          <p:cNvSpPr/>
          <p:nvPr/>
        </p:nvSpPr>
        <p:spPr>
          <a:xfrm>
            <a:off x="4319640" y="5796000"/>
            <a:ext cx="2700360" cy="900000"/>
          </a:xfrm>
          <a:prstGeom prst="wedgeRectCallout">
            <a:avLst>
              <a:gd name="adj1" fmla="val 97574"/>
              <a:gd name="adj2" fmla="val -226060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95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95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токол суперсервер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che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Механизм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on-line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0000" y="175680"/>
            <a:ext cx="83170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Механизм </a:t>
            </a: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on-line </a:t>
            </a:r>
            <a:r>
              <a:rPr b="1" lang="ru-RU" sz="3600" spc="-1" strike="noStrike" u="sng">
                <a:solidFill>
                  <a:srgbClr val="333333"/>
                </a:solidFill>
                <a:uFillTx/>
                <a:latin typeface="Constantia"/>
              </a:rPr>
              <a:t>получения данных от удалённых систе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1"/>
          <p:cNvSpPr/>
          <p:nvPr/>
        </p:nvSpPr>
        <p:spPr>
          <a:xfrm>
            <a:off x="719280" y="2124000"/>
            <a:ext cx="2881080" cy="4608720"/>
          </a:xfrm>
          <a:prstGeom prst="rect">
            <a:avLst/>
          </a:prstGeom>
          <a:noFill/>
          <a:ln w="223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"/>
          <p:cNvSpPr/>
          <p:nvPr/>
        </p:nvSpPr>
        <p:spPr>
          <a:xfrm>
            <a:off x="873000" y="2195640"/>
            <a:ext cx="2068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редающ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971640" y="3979800"/>
            <a:ext cx="2500200" cy="158292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7"/>
          <p:cNvSpPr/>
          <p:nvPr/>
        </p:nvSpPr>
        <p:spPr>
          <a:xfrm>
            <a:off x="3887640" y="2136600"/>
            <a:ext cx="5932800" cy="5099400"/>
          </a:xfrm>
          <a:prstGeom prst="rect">
            <a:avLst/>
          </a:prstGeom>
          <a:noFill/>
          <a:ln w="223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5199840" y="2209680"/>
            <a:ext cx="3521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нимающ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3"/>
          <a:stretch/>
        </p:blipFill>
        <p:spPr>
          <a:xfrm>
            <a:off x="5184720" y="2644920"/>
            <a:ext cx="3948120" cy="1650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"/>
          <p:cNvPicPr/>
          <p:nvPr/>
        </p:nvPicPr>
        <p:blipFill>
          <a:blip r:embed="rId4"/>
          <a:stretch/>
        </p:blipFill>
        <p:spPr>
          <a:xfrm>
            <a:off x="5194440" y="5578560"/>
            <a:ext cx="3541680" cy="1496880"/>
          </a:xfrm>
          <a:prstGeom prst="rect">
            <a:avLst/>
          </a:prstGeom>
          <a:ln w="0">
            <a:noFill/>
          </a:ln>
        </p:spPr>
      </p:pic>
      <p:sp>
        <p:nvSpPr>
          <p:cNvPr id="570" name="Стрелка вправо 3"/>
          <p:cNvSpPr/>
          <p:nvPr/>
        </p:nvSpPr>
        <p:spPr>
          <a:xfrm>
            <a:off x="3351240" y="4770360"/>
            <a:ext cx="785880" cy="2872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6" descr=""/>
          <p:cNvPicPr/>
          <p:nvPr/>
        </p:nvPicPr>
        <p:blipFill>
          <a:blip r:embed="rId5"/>
          <a:stretch/>
        </p:blipFill>
        <p:spPr>
          <a:xfrm>
            <a:off x="3887640" y="4626000"/>
            <a:ext cx="3873600" cy="655560"/>
          </a:xfrm>
          <a:prstGeom prst="rect">
            <a:avLst/>
          </a:prstGeom>
          <a:ln w="0">
            <a:noFill/>
          </a:ln>
        </p:spPr>
      </p:pic>
      <p:cxnSp>
        <p:nvCxnSpPr>
          <p:cNvPr id="572" name="Соединительная линия уступом 5"/>
          <p:cNvCxnSpPr>
            <a:stCxn id="571" idx="0"/>
            <a:endCxn id="568" idx="2"/>
          </p:cNvCxnSpPr>
          <p:nvPr/>
        </p:nvCxnSpPr>
        <p:spPr>
          <a:xfrm flipH="1" flipV="1" rot="5400000">
            <a:off x="6325920" y="3793680"/>
            <a:ext cx="330840" cy="1334160"/>
          </a:xfrm>
          <a:prstGeom prst="bentConnector3">
            <a:avLst>
              <a:gd name="adj1" fmla="val 50000"/>
            </a:avLst>
          </a:prstGeom>
          <a:ln w="22320">
            <a:solidFill>
              <a:srgbClr val="000000"/>
            </a:solidFill>
            <a:prstDash val="sysDash"/>
            <a:round/>
            <a:tailEnd len="med" type="triangle" w="med"/>
          </a:ln>
        </p:spPr>
      </p:cxnSp>
      <p:cxnSp>
        <p:nvCxnSpPr>
          <p:cNvPr id="573" name="Соединительная линия уступом 16"/>
          <p:cNvCxnSpPr>
            <a:stCxn id="571" idx="2"/>
            <a:endCxn id="569" idx="0"/>
          </p:cNvCxnSpPr>
          <p:nvPr/>
        </p:nvCxnSpPr>
        <p:spPr>
          <a:xfrm flipH="1" rot="16200000">
            <a:off x="6245640" y="4858920"/>
            <a:ext cx="297720" cy="1142280"/>
          </a:xfrm>
          <a:prstGeom prst="bentConnector3">
            <a:avLst>
              <a:gd name="adj1" fmla="val 50000"/>
            </a:avLst>
          </a:prstGeom>
          <a:ln w="22320">
            <a:solidFill>
              <a:srgbClr val="ff0000"/>
            </a:solidFill>
            <a:prstDash val="sysDash"/>
            <a:round/>
            <a:tailEnd len="med" type="triangle" w="med"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"/>
          <p:cNvSpPr/>
          <p:nvPr/>
        </p:nvSpPr>
        <p:spPr>
          <a:xfrm>
            <a:off x="1619280" y="108000"/>
            <a:ext cx="752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Constanti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2"/>
          <a:stretch/>
        </p:blipFill>
        <p:spPr>
          <a:xfrm>
            <a:off x="560520" y="2378160"/>
            <a:ext cx="9340560" cy="1762200"/>
          </a:xfrm>
          <a:prstGeom prst="rect">
            <a:avLst/>
          </a:prstGeom>
          <a:ln w="0">
            <a:noFill/>
          </a:ln>
        </p:spPr>
      </p:pic>
      <p:sp>
        <p:nvSpPr>
          <p:cNvPr id="580" name="AutoShape 4"/>
          <p:cNvSpPr/>
          <p:nvPr/>
        </p:nvSpPr>
        <p:spPr>
          <a:xfrm>
            <a:off x="900000" y="5040360"/>
            <a:ext cx="3240360" cy="1260360"/>
          </a:xfrm>
          <a:prstGeom prst="wedgeRectCallout">
            <a:avLst>
              <a:gd name="adj1" fmla="val -6652"/>
              <a:gd name="adj2" fmla="val -1354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производить поиск информации в локальной 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5940360" y="5040360"/>
            <a:ext cx="3419640" cy="1800000"/>
          </a:xfrm>
          <a:prstGeom prst="wedgeRectCallout">
            <a:avLst>
              <a:gd name="adj1" fmla="val -8944"/>
              <a:gd name="adj2" fmla="val -1098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ет производить поиск информации как в локальной, так и в удаленных БД по медленным каналам свя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2"/>
          <p:cNvSpPr/>
          <p:nvPr/>
        </p:nvSpPr>
        <p:spPr>
          <a:xfrm>
            <a:off x="1619280" y="108000"/>
            <a:ext cx="752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Constanti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333333"/>
                </a:solidFill>
                <a:uFillTx/>
                <a:latin typeface="Constantia"/>
              </a:rPr>
              <a:t>(Стандартный поисковый модул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627120" y="2824200"/>
            <a:ext cx="506160" cy="1298160"/>
            <a:chOff x="627120" y="2824200"/>
            <a:chExt cx="506160" cy="1298160"/>
          </a:xfrm>
        </p:grpSpPr>
        <p:sp>
          <p:nvSpPr>
            <p:cNvPr id="585" name="AutoShape 4"/>
            <p:cNvSpPr/>
            <p:nvPr/>
          </p:nvSpPr>
          <p:spPr>
            <a:xfrm>
              <a:off x="656640" y="2824200"/>
              <a:ext cx="476640" cy="5166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5"/>
            <p:cNvSpPr/>
            <p:nvPr/>
          </p:nvSpPr>
          <p:spPr>
            <a:xfrm>
              <a:off x="870840" y="334404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6"/>
            <p:cNvSpPr/>
            <p:nvPr/>
          </p:nvSpPr>
          <p:spPr>
            <a:xfrm>
              <a:off x="631440" y="347400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7"/>
            <p:cNvSpPr/>
            <p:nvPr/>
          </p:nvSpPr>
          <p:spPr>
            <a:xfrm flipH="1">
              <a:off x="627120" y="386244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8"/>
            <p:cNvSpPr/>
            <p:nvPr/>
          </p:nvSpPr>
          <p:spPr>
            <a:xfrm flipH="1" flipV="1">
              <a:off x="864360" y="385452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Freeform 9"/>
          <p:cNvSpPr/>
          <p:nvPr/>
        </p:nvSpPr>
        <p:spPr>
          <a:xfrm>
            <a:off x="1800360" y="4319640"/>
            <a:ext cx="1619280" cy="539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QL-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Freeform 10"/>
          <p:cNvSpPr/>
          <p:nvPr/>
        </p:nvSpPr>
        <p:spPr>
          <a:xfrm>
            <a:off x="6840360" y="3600360"/>
            <a:ext cx="1440000" cy="540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QL-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11"/>
          <p:cNvSpPr/>
          <p:nvPr/>
        </p:nvSpPr>
        <p:spPr>
          <a:xfrm>
            <a:off x="2340000" y="3060720"/>
            <a:ext cx="1619280" cy="539640"/>
          </a:xfrm>
          <a:prstGeom prst="roundRect">
            <a:avLst>
              <a:gd name="adj" fmla="val 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1258920" y="3421080"/>
            <a:ext cx="1081080" cy="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Group 15"/>
          <p:cNvGrpSpPr/>
          <p:nvPr/>
        </p:nvGrpSpPr>
        <p:grpSpPr>
          <a:xfrm>
            <a:off x="8852040" y="2519280"/>
            <a:ext cx="505800" cy="1297800"/>
            <a:chOff x="8852040" y="2519280"/>
            <a:chExt cx="505800" cy="1297800"/>
          </a:xfrm>
        </p:grpSpPr>
        <p:sp>
          <p:nvSpPr>
            <p:cNvPr id="595" name="AutoShape 16"/>
            <p:cNvSpPr/>
            <p:nvPr/>
          </p:nvSpPr>
          <p:spPr>
            <a:xfrm>
              <a:off x="8881920" y="2519280"/>
              <a:ext cx="47592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7"/>
            <p:cNvSpPr/>
            <p:nvPr/>
          </p:nvSpPr>
          <p:spPr>
            <a:xfrm>
              <a:off x="9095400" y="30376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8"/>
            <p:cNvSpPr/>
            <p:nvPr/>
          </p:nvSpPr>
          <p:spPr>
            <a:xfrm>
              <a:off x="8856360" y="316764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9"/>
            <p:cNvSpPr/>
            <p:nvPr/>
          </p:nvSpPr>
          <p:spPr>
            <a:xfrm flipH="1">
              <a:off x="8852040" y="35560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20"/>
            <p:cNvSpPr/>
            <p:nvPr/>
          </p:nvSpPr>
          <p:spPr>
            <a:xfrm flipH="1" flipV="1">
              <a:off x="9088920" y="3549600"/>
              <a:ext cx="24804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AutoShape 21"/>
          <p:cNvSpPr/>
          <p:nvPr/>
        </p:nvSpPr>
        <p:spPr>
          <a:xfrm>
            <a:off x="6119640" y="2739960"/>
            <a:ext cx="1619280" cy="539640"/>
          </a:xfrm>
          <a:prstGeom prst="roundRect">
            <a:avLst>
              <a:gd name="adj" fmla="val 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24"/>
          <p:cNvSpPr/>
          <p:nvPr/>
        </p:nvSpPr>
        <p:spPr>
          <a:xfrm>
            <a:off x="7020000" y="4540320"/>
            <a:ext cx="180000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5"/>
          <p:cNvSpPr/>
          <p:nvPr/>
        </p:nvSpPr>
        <p:spPr>
          <a:xfrm>
            <a:off x="4859280" y="3639960"/>
            <a:ext cx="1440000" cy="540000"/>
          </a:xfrm>
          <a:prstGeom prst="wedgeRoundRectCallout">
            <a:avLst>
              <a:gd name="adj1" fmla="val 40425"/>
              <a:gd name="adj2" fmla="val 180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30"/>
          <p:cNvSpPr/>
          <p:nvPr/>
        </p:nvSpPr>
        <p:spPr>
          <a:xfrm>
            <a:off x="539640" y="2160720"/>
            <a:ext cx="3780000" cy="341928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079640" y="2203560"/>
            <a:ext cx="2406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Arial"/>
              </a:rPr>
              <a:t>Динамический 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2"/>
          <p:cNvSpPr/>
          <p:nvPr/>
        </p:nvSpPr>
        <p:spPr>
          <a:xfrm>
            <a:off x="4680000" y="2160720"/>
            <a:ext cx="5040360" cy="341928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5872320" y="2203560"/>
            <a:ext cx="2371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Arial"/>
              </a:rPr>
              <a:t>Статический за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4"/>
          <p:cNvSpPr/>
          <p:nvPr/>
        </p:nvSpPr>
        <p:spPr>
          <a:xfrm>
            <a:off x="3600360" y="5851440"/>
            <a:ext cx="2700360" cy="10789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ьный сервер Б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 flipH="1" flipV="1">
            <a:off x="1258560" y="3551400"/>
            <a:ext cx="1081080" cy="76824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2700360" y="3639960"/>
            <a:ext cx="449280" cy="67968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12"/>
          <p:cNvSpPr/>
          <p:nvPr/>
        </p:nvSpPr>
        <p:spPr>
          <a:xfrm>
            <a:off x="2924280" y="4859280"/>
            <a:ext cx="1755720" cy="99216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12"/>
          <p:cNvSpPr/>
          <p:nvPr/>
        </p:nvSpPr>
        <p:spPr>
          <a:xfrm flipH="1" flipV="1">
            <a:off x="7740720" y="3036960"/>
            <a:ext cx="1079280" cy="4608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2"/>
          <p:cNvSpPr/>
          <p:nvPr/>
        </p:nvSpPr>
        <p:spPr>
          <a:xfrm flipH="1">
            <a:off x="5760720" y="3279600"/>
            <a:ext cx="1168200" cy="257184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2"/>
          <p:cNvSpPr/>
          <p:nvPr/>
        </p:nvSpPr>
        <p:spPr>
          <a:xfrm flipV="1">
            <a:off x="6345360" y="5440320"/>
            <a:ext cx="1574640" cy="9511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2"/>
          <p:cNvSpPr/>
          <p:nvPr/>
        </p:nvSpPr>
        <p:spPr>
          <a:xfrm flipH="1" flipV="1">
            <a:off x="7416720" y="4122720"/>
            <a:ext cx="827280" cy="41760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2"/>
          <p:cNvSpPr/>
          <p:nvPr/>
        </p:nvSpPr>
        <p:spPr>
          <a:xfrm flipV="1">
            <a:off x="7920000" y="3168720"/>
            <a:ext cx="1054080" cy="43488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4586"/>
                </a:solidFill>
                <a:latin typeface="Arial"/>
              </a:rPr>
              <a:t>Территориально-распределённая Информационная Система ГИБДД МВД России (ТРИС РВ) предназначена для автоматизации регистрационной, экзаменационной, учетной, информационно-поисковой и отчетно-аналитической деятельности подразделений Госавтоинспекции федерального, регионального и территориального (абонентского)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Назначение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2"/>
          <p:cNvSpPr/>
          <p:nvPr/>
        </p:nvSpPr>
        <p:spPr>
          <a:xfrm>
            <a:off x="1619280" y="108000"/>
            <a:ext cx="7523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Constantia"/>
              </a:rPr>
              <a:t>Поиск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333333"/>
                </a:solidFill>
                <a:uFillTx/>
                <a:latin typeface="Constantia"/>
              </a:rPr>
              <a:t>(Модуль универсального поиск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" name="Group 3"/>
          <p:cNvGrpSpPr/>
          <p:nvPr/>
        </p:nvGrpSpPr>
        <p:grpSpPr>
          <a:xfrm>
            <a:off x="1252440" y="2128680"/>
            <a:ext cx="506160" cy="1298160"/>
            <a:chOff x="1252440" y="2128680"/>
            <a:chExt cx="506160" cy="1298160"/>
          </a:xfrm>
        </p:grpSpPr>
        <p:sp>
          <p:nvSpPr>
            <p:cNvPr id="619" name="AutoShape 4"/>
            <p:cNvSpPr/>
            <p:nvPr/>
          </p:nvSpPr>
          <p:spPr>
            <a:xfrm>
              <a:off x="1282320" y="212868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5"/>
            <p:cNvSpPr/>
            <p:nvPr/>
          </p:nvSpPr>
          <p:spPr>
            <a:xfrm>
              <a:off x="1496160" y="26470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"/>
            <p:cNvSpPr/>
            <p:nvPr/>
          </p:nvSpPr>
          <p:spPr>
            <a:xfrm>
              <a:off x="1256760" y="277848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 flipH="1">
              <a:off x="1252440" y="31654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 flipH="1" flipV="1">
              <a:off x="1490040" y="3158640"/>
              <a:ext cx="24840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AutoShape 9"/>
          <p:cNvSpPr/>
          <p:nvPr/>
        </p:nvSpPr>
        <p:spPr>
          <a:xfrm>
            <a:off x="1079640" y="4680000"/>
            <a:ext cx="1619280" cy="539640"/>
          </a:xfrm>
          <a:prstGeom prst="roundRect">
            <a:avLst>
              <a:gd name="adj" fmla="val 2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4500720" y="2160720"/>
            <a:ext cx="1800000" cy="900000"/>
          </a:xfrm>
          <a:prstGeom prst="roundRect">
            <a:avLst>
              <a:gd name="adj" fmla="val 1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reeform 15"/>
          <p:cNvSpPr/>
          <p:nvPr/>
        </p:nvSpPr>
        <p:spPr>
          <a:xfrm>
            <a:off x="7559640" y="2160720"/>
            <a:ext cx="1979640" cy="10792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ИТКС, GP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6"/>
          <p:cNvSpPr/>
          <p:nvPr/>
        </p:nvSpPr>
        <p:spPr>
          <a:xfrm>
            <a:off x="3598920" y="5851440"/>
            <a:ext cx="2700360" cy="10789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ьный сервер Б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7"/>
          <p:cNvSpPr/>
          <p:nvPr/>
        </p:nvSpPr>
        <p:spPr>
          <a:xfrm>
            <a:off x="7020000" y="5536800"/>
            <a:ext cx="2700360" cy="6260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, МРЦ, РЦ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9" name="AutoShape 19"/>
          <p:cNvCxnSpPr>
            <a:stCxn id="627" idx="2"/>
            <a:endCxn id="627" idx="1"/>
          </p:cNvCxnSpPr>
          <p:nvPr/>
        </p:nvCxnSpPr>
        <p:spPr>
          <a:xfrm flipH="1" rot="10800000">
            <a:off x="3598560" y="5850720"/>
            <a:ext cx="1350000" cy="540720"/>
          </a:xfrm>
          <a:prstGeom prst="bentConnector4">
            <a:avLst>
              <a:gd name="adj1" fmla="val -34382"/>
              <a:gd name="adj2" fmla="val 179013"/>
            </a:avLst>
          </a:prstGeom>
          <a:ln w="59400">
            <a:solidFill>
              <a:srgbClr val="0070c0"/>
            </a:solidFill>
            <a:prstDash val="sysDash"/>
            <a:round/>
            <a:headEnd len="med" type="triangle" w="med"/>
            <a:tailEnd len="med" type="triangle" w="med"/>
          </a:ln>
        </p:spPr>
      </p:cxnSp>
      <p:sp>
        <p:nvSpPr>
          <p:cNvPr id="630" name="Line 12"/>
          <p:cNvSpPr/>
          <p:nvPr/>
        </p:nvSpPr>
        <p:spPr>
          <a:xfrm flipH="1" flipV="1">
            <a:off x="1985760" y="2758680"/>
            <a:ext cx="2406600" cy="205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1" name="Соединительная линия уступом 4"/>
          <p:cNvCxnSpPr>
            <a:stCxn id="624" idx="2"/>
            <a:endCxn id="627" idx="3"/>
          </p:cNvCxnSpPr>
          <p:nvPr/>
        </p:nvCxnSpPr>
        <p:spPr>
          <a:xfrm flipH="1" rot="16200000">
            <a:off x="2563920" y="4544640"/>
            <a:ext cx="1712160" cy="3061440"/>
          </a:xfrm>
          <a:prstGeom prst="bentConnector3">
            <a:avLst>
              <a:gd name="adj1" fmla="val 118864"/>
            </a:avLst>
          </a:prstGeom>
          <a:ln w="60480">
            <a:solidFill>
              <a:srgbClr val="0070c0"/>
            </a:solidFill>
            <a:prstDash val="sysDash"/>
            <a:round/>
            <a:tailEnd len="med" type="triangle" w="med"/>
          </a:ln>
        </p:spPr>
      </p:cxnSp>
      <p:sp>
        <p:nvSpPr>
          <p:cNvPr id="632" name="Line 12"/>
          <p:cNvSpPr/>
          <p:nvPr/>
        </p:nvSpPr>
        <p:spPr>
          <a:xfrm>
            <a:off x="1901880" y="2987640"/>
            <a:ext cx="0" cy="171144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 flipV="1">
            <a:off x="5545080" y="3294000"/>
            <a:ext cx="2590920" cy="255600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2"/>
          <p:cNvSpPr/>
          <p:nvPr/>
        </p:nvSpPr>
        <p:spPr>
          <a:xfrm>
            <a:off x="8640720" y="3240000"/>
            <a:ext cx="432000" cy="1979640"/>
          </a:xfrm>
          <a:prstGeom prst="line">
            <a:avLst/>
          </a:prstGeom>
          <a:ln w="59400">
            <a:solidFill>
              <a:srgbClr val="0070c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 flipV="1">
            <a:off x="8368920" y="3239640"/>
            <a:ext cx="415800" cy="197964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H="1">
            <a:off x="5184720" y="3151080"/>
            <a:ext cx="2735280" cy="269892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2"/>
          <p:cNvSpPr/>
          <p:nvPr/>
        </p:nvSpPr>
        <p:spPr>
          <a:xfrm flipV="1">
            <a:off x="5111640" y="3060720"/>
            <a:ext cx="0" cy="2789280"/>
          </a:xfrm>
          <a:prstGeom prst="line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0360" y="17568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539640" y="1979640"/>
            <a:ext cx="918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жим on-line – непосредственная работа с информационной системой регионального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жим on-line по медленным каналам связи с использованием сервера терминалов Windows – подключение пользователей к серверу терминалов Windows, с которого осуществляется непосредственная работа с информационной системой регионального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Режим off-line – работа с информационной системой районного (межрайонного)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Комбинированный режим, в котор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для ввода и корректировки данных осуществляется работа с информационной системойрайонного уровн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для осуществления различных проверок (в том числе и по розыску) осуществляется работа с информационной системой регионального уровн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0360" y="120240"/>
            <a:ext cx="860904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br>
              <a:rPr sz="3600"/>
            </a:b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(режим «on-line»)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3"/>
          <p:cNvSpPr/>
          <p:nvPr/>
        </p:nvSpPr>
        <p:spPr>
          <a:xfrm>
            <a:off x="2712960" y="2967120"/>
            <a:ext cx="270036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2879640" y="5221080"/>
            <a:ext cx="2340000" cy="12769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ервер терминалов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8" name="AutoShape 5"/>
          <p:cNvCxnSpPr>
            <a:endCxn id="646" idx="2"/>
          </p:cNvCxnSpPr>
          <p:nvPr/>
        </p:nvCxnSpPr>
        <p:spPr>
          <a:xfrm flipV="1">
            <a:off x="1407600" y="3506040"/>
            <a:ext cx="1305720" cy="1104120"/>
          </a:xfrm>
          <a:prstGeom prst="bentConnector3">
            <a:avLst>
              <a:gd name="adj1" fmla="val 50000"/>
            </a:avLst>
          </a:prstGeom>
          <a:ln w="59400">
            <a:solidFill>
              <a:srgbClr val="404040"/>
            </a:solidFill>
            <a:prstDash val="sysDash"/>
            <a:round/>
            <a:headEnd len="med" type="triangle" w="med"/>
            <a:tailEnd len="med" type="triangle" w="med"/>
          </a:ln>
        </p:spPr>
      </p:cxnSp>
      <p:cxnSp>
        <p:nvCxnSpPr>
          <p:cNvPr id="649" name="AutoShape 7"/>
          <p:cNvCxnSpPr>
            <a:endCxn id="647" idx="0"/>
          </p:cNvCxnSpPr>
          <p:nvPr/>
        </p:nvCxnSpPr>
        <p:spPr>
          <a:xfrm flipH="1" flipV="1">
            <a:off x="5219280" y="5858640"/>
            <a:ext cx="2732400" cy="731160"/>
          </a:xfrm>
          <a:prstGeom prst="straightConnector1">
            <a:avLst/>
          </a:prstGeom>
          <a:ln w="59400">
            <a:solidFill>
              <a:srgbClr val="40404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650" name="AutoShape 8"/>
          <p:cNvSpPr/>
          <p:nvPr/>
        </p:nvSpPr>
        <p:spPr>
          <a:xfrm>
            <a:off x="6840360" y="4576680"/>
            <a:ext cx="2700360" cy="625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7845480" y="2781360"/>
            <a:ext cx="1260360" cy="900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ИТ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2" name="AutoShape 14"/>
          <p:cNvCxnSpPr>
            <a:stCxn id="650" idx="0"/>
            <a:endCxn id="651" idx="52"/>
          </p:cNvCxnSpPr>
          <p:nvPr/>
        </p:nvCxnSpPr>
        <p:spPr>
          <a:xfrm flipH="1" flipV="1">
            <a:off x="8159400" y="3610800"/>
            <a:ext cx="32400" cy="1121400"/>
          </a:xfrm>
          <a:prstGeom prst="straightConnector1">
            <a:avLst/>
          </a:prstGeom>
          <a:ln w="5940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53" name="Group 15"/>
          <p:cNvGrpSpPr/>
          <p:nvPr/>
        </p:nvGrpSpPr>
        <p:grpSpPr>
          <a:xfrm>
            <a:off x="900000" y="3959280"/>
            <a:ext cx="506160" cy="1298160"/>
            <a:chOff x="900000" y="3959280"/>
            <a:chExt cx="506160" cy="1298160"/>
          </a:xfrm>
        </p:grpSpPr>
        <p:sp>
          <p:nvSpPr>
            <p:cNvPr id="654" name="AutoShape 16"/>
            <p:cNvSpPr/>
            <p:nvPr/>
          </p:nvSpPr>
          <p:spPr>
            <a:xfrm>
              <a:off x="929880" y="3959280"/>
              <a:ext cx="476280" cy="5166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>
              <a:off x="1143720" y="4477680"/>
              <a:ext cx="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8"/>
            <p:cNvSpPr/>
            <p:nvPr/>
          </p:nvSpPr>
          <p:spPr>
            <a:xfrm>
              <a:off x="904320" y="46090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19"/>
            <p:cNvSpPr/>
            <p:nvPr/>
          </p:nvSpPr>
          <p:spPr>
            <a:xfrm flipH="1">
              <a:off x="900000" y="49960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20"/>
            <p:cNvSpPr/>
            <p:nvPr/>
          </p:nvSpPr>
          <p:spPr>
            <a:xfrm flipH="1" flipV="1">
              <a:off x="1136880" y="4989600"/>
              <a:ext cx="24876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21"/>
          <p:cNvGrpSpPr/>
          <p:nvPr/>
        </p:nvGrpSpPr>
        <p:grpSpPr>
          <a:xfrm>
            <a:off x="7951680" y="5940360"/>
            <a:ext cx="506160" cy="1297800"/>
            <a:chOff x="7951680" y="5940360"/>
            <a:chExt cx="506160" cy="1297800"/>
          </a:xfrm>
        </p:grpSpPr>
        <p:sp>
          <p:nvSpPr>
            <p:cNvPr id="660" name="AutoShape 22"/>
            <p:cNvSpPr/>
            <p:nvPr/>
          </p:nvSpPr>
          <p:spPr>
            <a:xfrm>
              <a:off x="7981560" y="594036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23"/>
            <p:cNvSpPr/>
            <p:nvPr/>
          </p:nvSpPr>
          <p:spPr>
            <a:xfrm>
              <a:off x="8195400" y="64587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24"/>
            <p:cNvSpPr/>
            <p:nvPr/>
          </p:nvSpPr>
          <p:spPr>
            <a:xfrm>
              <a:off x="7956000" y="65887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25"/>
            <p:cNvSpPr/>
            <p:nvPr/>
          </p:nvSpPr>
          <p:spPr>
            <a:xfrm flipH="1">
              <a:off x="7951680" y="697716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26"/>
            <p:cNvSpPr/>
            <p:nvPr/>
          </p:nvSpPr>
          <p:spPr>
            <a:xfrm flipH="1" flipV="1">
              <a:off x="8188560" y="6970680"/>
              <a:ext cx="2487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65" name="AutoShape 7"/>
          <p:cNvCxnSpPr>
            <a:stCxn id="647" idx="1"/>
            <a:endCxn id="646" idx="3"/>
          </p:cNvCxnSpPr>
          <p:nvPr/>
        </p:nvCxnSpPr>
        <p:spPr>
          <a:xfrm flipV="1">
            <a:off x="4049640" y="4046040"/>
            <a:ext cx="15120" cy="1175760"/>
          </a:xfrm>
          <a:prstGeom prst="straightConnector1">
            <a:avLst/>
          </a:prstGeom>
          <a:ln w="59400">
            <a:solidFill>
              <a:srgbClr val="40404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666" name="AutoShape 14"/>
          <p:cNvCxnSpPr>
            <a:stCxn id="651" idx="53"/>
            <a:endCxn id="646" idx="4"/>
          </p:cNvCxnSpPr>
          <p:nvPr/>
        </p:nvCxnSpPr>
        <p:spPr>
          <a:xfrm flipH="1">
            <a:off x="5412600" y="3479400"/>
            <a:ext cx="2561400" cy="27720"/>
          </a:xfrm>
          <a:prstGeom prst="straightConnector1">
            <a:avLst/>
          </a:prstGeom>
          <a:ln w="59400">
            <a:solidFill>
              <a:srgbClr val="0070c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0360" y="183960"/>
            <a:ext cx="86090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br>
              <a:rPr sz="3600"/>
            </a:b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(режим «off-line», обмен информацией)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3"/>
          <p:cNvSpPr/>
          <p:nvPr/>
        </p:nvSpPr>
        <p:spPr>
          <a:xfrm>
            <a:off x="3103560" y="248616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0" name="AutoShape 4"/>
          <p:cNvCxnSpPr>
            <a:endCxn id="671" idx="2"/>
          </p:cNvCxnSpPr>
          <p:nvPr/>
        </p:nvCxnSpPr>
        <p:spPr>
          <a:xfrm flipV="1">
            <a:off x="1440000" y="6011640"/>
            <a:ext cx="1621440" cy="18000"/>
          </a:xfrm>
          <a:prstGeom prst="bentConnector3">
            <a:avLst>
              <a:gd name="adj1" fmla="val 49988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71" name="AutoShape 5"/>
          <p:cNvSpPr/>
          <p:nvPr/>
        </p:nvSpPr>
        <p:spPr>
          <a:xfrm>
            <a:off x="3060720" y="547200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2" name="AutoShape 6"/>
          <p:cNvCxnSpPr>
            <a:stCxn id="671" idx="0"/>
            <a:endCxn id="669" idx="3"/>
          </p:cNvCxnSpPr>
          <p:nvPr/>
        </p:nvCxnSpPr>
        <p:spPr>
          <a:xfrm flipV="1">
            <a:off x="4319280" y="3503160"/>
            <a:ext cx="43560" cy="2170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3" name="AutoShape 7"/>
          <p:cNvSpPr/>
          <p:nvPr/>
        </p:nvSpPr>
        <p:spPr>
          <a:xfrm>
            <a:off x="539640" y="262404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4" name="AutoShape 8"/>
          <p:cNvCxnSpPr>
            <a:stCxn id="669" idx="4"/>
            <a:endCxn id="671" idx="4"/>
          </p:cNvCxnSpPr>
          <p:nvPr/>
        </p:nvCxnSpPr>
        <p:spPr>
          <a:xfrm flipH="1">
            <a:off x="5579280" y="3024000"/>
            <a:ext cx="43560" cy="2988360"/>
          </a:xfrm>
          <a:prstGeom prst="bentConnector3">
            <a:avLst>
              <a:gd name="adj1" fmla="val -917500"/>
            </a:avLst>
          </a:prstGeom>
          <a:ln w="59400">
            <a:solidFill>
              <a:srgbClr val="eb613d"/>
            </a:solidFill>
            <a:round/>
            <a:tailEnd len="med" type="triangle" w="med"/>
          </a:ln>
        </p:spPr>
      </p:cxnSp>
      <p:sp>
        <p:nvSpPr>
          <p:cNvPr id="675" name="AutoShape 9"/>
          <p:cNvSpPr/>
          <p:nvPr/>
        </p:nvSpPr>
        <p:spPr>
          <a:xfrm>
            <a:off x="539640" y="4051440"/>
            <a:ext cx="2160720" cy="664920"/>
          </a:xfrm>
          <a:prstGeom prst="wedgeRoundRectCallout">
            <a:avLst>
              <a:gd name="adj1" fmla="val 206185"/>
              <a:gd name="adj2" fmla="val 1286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Региональные 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7020000" y="2998800"/>
            <a:ext cx="2700360" cy="625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7" name="AutoShape 11"/>
          <p:cNvCxnSpPr>
            <a:stCxn id="676" idx="2"/>
          </p:cNvCxnSpPr>
          <p:nvPr/>
        </p:nvCxnSpPr>
        <p:spPr>
          <a:xfrm rot="10800000">
            <a:off x="5622120" y="2770920"/>
            <a:ext cx="1397880" cy="540720"/>
          </a:xfrm>
          <a:prstGeom prst="bentConnector3">
            <a:avLst>
              <a:gd name="adj1" fmla="val 50000"/>
            </a:avLst>
          </a:prstGeom>
          <a:ln w="5940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678" name="AutoShape 12"/>
          <p:cNvCxnSpPr>
            <a:stCxn id="676" idx="3"/>
          </p:cNvCxnSpPr>
          <p:nvPr/>
        </p:nvCxnSpPr>
        <p:spPr>
          <a:xfrm rot="5400000">
            <a:off x="5612760" y="3590640"/>
            <a:ext cx="2724840" cy="2791440"/>
          </a:xfrm>
          <a:prstGeom prst="bentConnector2">
            <a:avLst/>
          </a:prstGeom>
          <a:ln w="59400">
            <a:solidFill>
              <a:srgbClr val="0070c0"/>
            </a:solidFill>
            <a:round/>
            <a:tailEnd len="med" type="triangle" w="med"/>
          </a:ln>
        </p:spPr>
      </p:cxnSp>
      <p:sp>
        <p:nvSpPr>
          <p:cNvPr id="679" name="AutoShape 13"/>
          <p:cNvSpPr/>
          <p:nvPr/>
        </p:nvSpPr>
        <p:spPr>
          <a:xfrm>
            <a:off x="6300720" y="4037040"/>
            <a:ext cx="1979640" cy="539640"/>
          </a:xfrm>
          <a:prstGeom prst="wedgeRoundRectCallout">
            <a:avLst>
              <a:gd name="adj1" fmla="val 53953"/>
              <a:gd name="adj2" fmla="val 167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олнение Ф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Group 14"/>
          <p:cNvGrpSpPr/>
          <p:nvPr/>
        </p:nvGrpSpPr>
        <p:grpSpPr>
          <a:xfrm>
            <a:off x="752040" y="5219640"/>
            <a:ext cx="685800" cy="1617480"/>
            <a:chOff x="752040" y="5219640"/>
            <a:chExt cx="685800" cy="1617480"/>
          </a:xfrm>
        </p:grpSpPr>
        <p:sp>
          <p:nvSpPr>
            <p:cNvPr id="681" name="AutoShape 15"/>
            <p:cNvSpPr/>
            <p:nvPr/>
          </p:nvSpPr>
          <p:spPr>
            <a:xfrm>
              <a:off x="791640" y="521964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16"/>
            <p:cNvSpPr/>
            <p:nvPr/>
          </p:nvSpPr>
          <p:spPr>
            <a:xfrm>
              <a:off x="1081800" y="586584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17"/>
            <p:cNvSpPr/>
            <p:nvPr/>
          </p:nvSpPr>
          <p:spPr>
            <a:xfrm>
              <a:off x="756720" y="602784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18"/>
            <p:cNvSpPr/>
            <p:nvPr/>
          </p:nvSpPr>
          <p:spPr>
            <a:xfrm flipH="1">
              <a:off x="752040" y="651096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19"/>
            <p:cNvSpPr/>
            <p:nvPr/>
          </p:nvSpPr>
          <p:spPr>
            <a:xfrm flipH="1" flipV="1">
              <a:off x="1073520" y="650448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0360" y="183960"/>
            <a:ext cx="86090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Constantia"/>
              </a:rPr>
              <a:t>Взаимодействие между информационными системами</a:t>
            </a:r>
            <a:br>
              <a:rPr sz="3600"/>
            </a:b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(режим «комбинированный»)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"/>
          <p:cNvSpPr/>
          <p:nvPr/>
        </p:nvSpPr>
        <p:spPr>
          <a:xfrm>
            <a:off x="3103560" y="240984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4"/>
          <p:cNvCxnSpPr>
            <a:endCxn id="690" idx="3"/>
          </p:cNvCxnSpPr>
          <p:nvPr/>
        </p:nvCxnSpPr>
        <p:spPr>
          <a:xfrm>
            <a:off x="1618920" y="6210000"/>
            <a:ext cx="2701080" cy="65520"/>
          </a:xfrm>
          <a:prstGeom prst="bentConnector3">
            <a:avLst>
              <a:gd name="adj1" fmla="val 50000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90" name="AutoShape 5"/>
          <p:cNvSpPr/>
          <p:nvPr/>
        </p:nvSpPr>
        <p:spPr>
          <a:xfrm>
            <a:off x="3060720" y="539748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1" name="AutoShape 6"/>
          <p:cNvCxnSpPr/>
          <p:nvPr/>
        </p:nvCxnSpPr>
        <p:spPr>
          <a:xfrm flipH="1" flipV="1">
            <a:off x="4968000" y="3489120"/>
            <a:ext cx="43560" cy="1908720"/>
          </a:xfrm>
          <a:prstGeom prst="straightConnector1">
            <a:avLst/>
          </a:prstGeom>
          <a:ln w="72000">
            <a:solidFill>
              <a:srgbClr val="dc2300"/>
            </a:solidFill>
            <a:miter/>
            <a:tailEnd len="med" type="triangle" w="med"/>
          </a:ln>
        </p:spPr>
      </p:cxnSp>
      <p:sp>
        <p:nvSpPr>
          <p:cNvPr id="692" name="AutoShape 7"/>
          <p:cNvSpPr/>
          <p:nvPr/>
        </p:nvSpPr>
        <p:spPr>
          <a:xfrm>
            <a:off x="6029280" y="5604840"/>
            <a:ext cx="2340000" cy="664920"/>
          </a:xfrm>
          <a:prstGeom prst="wedgeRoundRectCallout">
            <a:avLst>
              <a:gd name="adj1" fmla="val -92958"/>
              <a:gd name="adj2" fmla="val -162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8"/>
          <p:cNvSpPr/>
          <p:nvPr/>
        </p:nvSpPr>
        <p:spPr>
          <a:xfrm>
            <a:off x="7199280" y="4003560"/>
            <a:ext cx="2700360" cy="6256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AutoShape 9"/>
          <p:cNvCxnSpPr>
            <a:stCxn id="693" idx="2"/>
            <a:endCxn id="688" idx="4"/>
          </p:cNvCxnSpPr>
          <p:nvPr/>
        </p:nvCxnSpPr>
        <p:spPr>
          <a:xfrm rot="10800000">
            <a:off x="5622120" y="2948760"/>
            <a:ext cx="1577160" cy="1367640"/>
          </a:xfrm>
          <a:prstGeom prst="bentConnector3">
            <a:avLst>
              <a:gd name="adj1" fmla="val 50000"/>
            </a:avLst>
          </a:prstGeom>
          <a:ln w="5940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95" name="AutoShape 11"/>
          <p:cNvSpPr/>
          <p:nvPr/>
        </p:nvSpPr>
        <p:spPr>
          <a:xfrm>
            <a:off x="930240" y="3986280"/>
            <a:ext cx="1440000" cy="360360"/>
          </a:xfrm>
          <a:prstGeom prst="wedgeRoundRectCallout">
            <a:avLst>
              <a:gd name="adj1" fmla="val 202481"/>
              <a:gd name="adj2" fmla="val 1178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6" name="AutoShape 12"/>
          <p:cNvCxnSpPr>
            <a:endCxn id="690" idx="0"/>
          </p:cNvCxnSpPr>
          <p:nvPr/>
        </p:nvCxnSpPr>
        <p:spPr>
          <a:xfrm flipH="1" rot="10800000">
            <a:off x="3168000" y="5666760"/>
            <a:ext cx="1152720" cy="270360"/>
          </a:xfrm>
          <a:prstGeom prst="bentConnector4">
            <a:avLst>
              <a:gd name="adj1" fmla="val -48984"/>
              <a:gd name="adj2" fmla="val 284666"/>
            </a:avLst>
          </a:prstGeom>
          <a:ln w="59400">
            <a:solidFill>
              <a:srgbClr val="333333"/>
            </a:solidFill>
            <a:prstDash val="sysDash"/>
            <a:round/>
            <a:headEnd len="med" type="triangle" w="med"/>
            <a:tailEnd len="med" type="triangle" w="med"/>
          </a:ln>
        </p:spPr>
      </p:cxnSp>
      <p:cxnSp>
        <p:nvCxnSpPr>
          <p:cNvPr id="697" name="AutoShape 13"/>
          <p:cNvCxnSpPr/>
          <p:nvPr/>
        </p:nvCxnSpPr>
        <p:spPr>
          <a:xfrm flipH="1" flipV="1">
            <a:off x="4571280" y="3574440"/>
            <a:ext cx="37080" cy="1826280"/>
          </a:xfrm>
          <a:prstGeom prst="straightConnector1">
            <a:avLst/>
          </a:prstGeom>
          <a:ln w="59400">
            <a:solidFill>
              <a:srgbClr val="404040"/>
            </a:solidFill>
            <a:prstDash val="sysDash"/>
            <a:miter/>
            <a:tailEnd len="med" type="triangle" w="med"/>
          </a:ln>
        </p:spPr>
      </p:cxnSp>
      <p:cxnSp>
        <p:nvCxnSpPr>
          <p:cNvPr id="698" name="AutoShape 14"/>
          <p:cNvCxnSpPr>
            <a:endCxn id="699" idx="52"/>
          </p:cNvCxnSpPr>
          <p:nvPr/>
        </p:nvCxnSpPr>
        <p:spPr>
          <a:xfrm>
            <a:off x="5622480" y="2687400"/>
            <a:ext cx="2297880" cy="1080"/>
          </a:xfrm>
          <a:prstGeom prst="straightConnector1">
            <a:avLst/>
          </a:prstGeom>
          <a:ln w="5940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700" name="AutoShape 15"/>
          <p:cNvSpPr/>
          <p:nvPr/>
        </p:nvSpPr>
        <p:spPr>
          <a:xfrm>
            <a:off x="6840360" y="3419640"/>
            <a:ext cx="1440000" cy="360360"/>
          </a:xfrm>
          <a:prstGeom prst="wedgeRoundRectCallout">
            <a:avLst>
              <a:gd name="adj1" fmla="val -69884"/>
              <a:gd name="adj2" fmla="val -261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Freeform 16"/>
          <p:cNvSpPr/>
          <p:nvPr/>
        </p:nvSpPr>
        <p:spPr>
          <a:xfrm>
            <a:off x="7920000" y="2160720"/>
            <a:ext cx="1260360" cy="900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ИТ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1" name="AutoShape 17"/>
          <p:cNvCxnSpPr>
            <a:stCxn id="693" idx="0"/>
            <a:endCxn id="699" idx="53"/>
          </p:cNvCxnSpPr>
          <p:nvPr/>
        </p:nvCxnSpPr>
        <p:spPr>
          <a:xfrm flipV="1">
            <a:off x="8548560" y="2777760"/>
            <a:ext cx="519840" cy="1342080"/>
          </a:xfrm>
          <a:prstGeom prst="straightConnector1">
            <a:avLst/>
          </a:prstGeom>
          <a:ln w="72000">
            <a:solidFill>
              <a:srgbClr val="4c1900"/>
            </a:solidFill>
            <a:prstDash val="sysDot"/>
            <a:miter/>
            <a:headEnd len="med" type="triangle" w="med"/>
            <a:tailEnd len="med" type="triangle" w="med"/>
          </a:ln>
        </p:spPr>
      </p:cxnSp>
      <p:grpSp>
        <p:nvGrpSpPr>
          <p:cNvPr id="702" name="Group 18"/>
          <p:cNvGrpSpPr/>
          <p:nvPr/>
        </p:nvGrpSpPr>
        <p:grpSpPr>
          <a:xfrm>
            <a:off x="932040" y="5400720"/>
            <a:ext cx="685440" cy="1617120"/>
            <a:chOff x="932040" y="5400720"/>
            <a:chExt cx="685440" cy="1617120"/>
          </a:xfrm>
        </p:grpSpPr>
        <p:sp>
          <p:nvSpPr>
            <p:cNvPr id="703" name="AutoShape 19"/>
            <p:cNvSpPr/>
            <p:nvPr/>
          </p:nvSpPr>
          <p:spPr>
            <a:xfrm>
              <a:off x="971280" y="5400720"/>
              <a:ext cx="646200" cy="6454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20"/>
            <p:cNvSpPr/>
            <p:nvPr/>
          </p:nvSpPr>
          <p:spPr>
            <a:xfrm>
              <a:off x="1261080" y="6046200"/>
              <a:ext cx="1440" cy="64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21"/>
            <p:cNvSpPr/>
            <p:nvPr/>
          </p:nvSpPr>
          <p:spPr>
            <a:xfrm>
              <a:off x="938160" y="6207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22"/>
            <p:cNvSpPr/>
            <p:nvPr/>
          </p:nvSpPr>
          <p:spPr>
            <a:xfrm flipH="1">
              <a:off x="932040" y="6693120"/>
              <a:ext cx="33552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23"/>
            <p:cNvSpPr/>
            <p:nvPr/>
          </p:nvSpPr>
          <p:spPr>
            <a:xfrm flipH="1" flipV="1">
              <a:off x="1253160" y="6685200"/>
              <a:ext cx="33552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"/>
          <p:cNvSpPr/>
          <p:nvPr/>
        </p:nvSpPr>
        <p:spPr>
          <a:xfrm>
            <a:off x="1652760" y="360360"/>
            <a:ext cx="770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Constantia"/>
              </a:rPr>
              <a:t>Принципы построения клиентской части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3"/>
          <p:cNvSpPr/>
          <p:nvPr/>
        </p:nvSpPr>
        <p:spPr>
          <a:xfrm>
            <a:off x="1800360" y="3456000"/>
            <a:ext cx="2519280" cy="1260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ые библиот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6659640" y="3425760"/>
            <a:ext cx="2519280" cy="1260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е библиот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1800360" y="1979640"/>
            <a:ext cx="7380000" cy="900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запускающий моду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AutoShape 6"/>
          <p:cNvSpPr/>
          <p:nvPr/>
        </p:nvSpPr>
        <p:spPr>
          <a:xfrm>
            <a:off x="1258920" y="5292720"/>
            <a:ext cx="2881440" cy="1368360"/>
          </a:xfrm>
          <a:prstGeom prst="wedgeRectCallout">
            <a:avLst>
              <a:gd name="adj1" fmla="val 9773"/>
              <a:gd name="adj2" fmla="val -94750"/>
            </a:avLst>
          </a:prstGeom>
          <a:solidFill>
            <a:srgbClr val="ffff99"/>
          </a:solidFill>
          <a:ln w="108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720" rIns="9072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уют карточки редактирования и опции мен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уется их регистрация в Б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7" name="AutoShape 7"/>
          <p:cNvCxnSpPr>
            <a:stCxn id="715" idx="0"/>
            <a:endCxn id="713" idx="0"/>
          </p:cNvCxnSpPr>
          <p:nvPr/>
        </p:nvCxnSpPr>
        <p:spPr>
          <a:xfrm rot="5400000">
            <a:off x="3987000" y="1952280"/>
            <a:ext cx="577080" cy="2431080"/>
          </a:xfrm>
          <a:prstGeom prst="bentConnector3">
            <a:avLst>
              <a:gd name="adj1" fmla="val 51622"/>
            </a:avLst>
          </a:prstGeom>
          <a:ln w="36000">
            <a:solidFill>
              <a:srgbClr val="000000"/>
            </a:solidFill>
            <a:round/>
          </a:ln>
        </p:spPr>
      </p:cxnSp>
      <p:cxnSp>
        <p:nvCxnSpPr>
          <p:cNvPr id="718" name="AutoShape 8"/>
          <p:cNvCxnSpPr>
            <a:stCxn id="715" idx="1"/>
            <a:endCxn id="714" idx="0"/>
          </p:cNvCxnSpPr>
          <p:nvPr/>
        </p:nvCxnSpPr>
        <p:spPr>
          <a:xfrm flipH="1" rot="16200000">
            <a:off x="6430320" y="1937520"/>
            <a:ext cx="546480" cy="2429640"/>
          </a:xfrm>
          <a:prstGeom prst="bentConnector3">
            <a:avLst>
              <a:gd name="adj1" fmla="val 55174"/>
            </a:avLst>
          </a:prstGeom>
          <a:ln w="36000">
            <a:solidFill>
              <a:srgbClr val="000000"/>
            </a:solidFill>
            <a:round/>
          </a:ln>
        </p:spPr>
      </p:cxnSp>
      <p:sp>
        <p:nvSpPr>
          <p:cNvPr id="719" name="AutoShape 9"/>
          <p:cNvSpPr/>
          <p:nvPr/>
        </p:nvSpPr>
        <p:spPr>
          <a:xfrm>
            <a:off x="6299280" y="5292720"/>
            <a:ext cx="2881080" cy="1368360"/>
          </a:xfrm>
          <a:prstGeom prst="wedgeRectCallout">
            <a:avLst>
              <a:gd name="adj1" fmla="val 9773"/>
              <a:gd name="adj2" fmla="val -94750"/>
            </a:avLst>
          </a:prstGeom>
          <a:solidFill>
            <a:srgbClr val="ffff99"/>
          </a:solidFill>
          <a:ln w="108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720" rIns="9072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уют общие механиз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истрация их в БД не требу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29880" y="2432160"/>
            <a:ext cx="8286840" cy="232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Учётные мех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Механизмы поис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Механизмы обмена информацией с другими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Механизмы настройки и администрирования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imes New Roman"/>
              </a:rPr>
              <a:t>Вспомогательные мех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3000"/>
              </a:lnSpc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6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1052640" y="2160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Функциональный состав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1052640" y="21600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Функциональный состав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5616720" y="3618000"/>
            <a:ext cx="3743280" cy="34750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верная часть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5619600" y="2050920"/>
            <a:ext cx="3740400" cy="1260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ентская часть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1"/>
          <p:cNvSpPr/>
          <p:nvPr/>
        </p:nvSpPr>
        <p:spPr>
          <a:xfrm>
            <a:off x="1152360" y="2411280"/>
            <a:ext cx="2232360" cy="9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Логика пользов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8"/>
          <p:cNvSpPr/>
          <p:nvPr/>
        </p:nvSpPr>
        <p:spPr>
          <a:xfrm>
            <a:off x="1152360" y="4427640"/>
            <a:ext cx="2232360" cy="9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Бизнес-лог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9"/>
          <p:cNvSpPr/>
          <p:nvPr/>
        </p:nvSpPr>
        <p:spPr>
          <a:xfrm>
            <a:off x="1152360" y="5815080"/>
            <a:ext cx="2232360" cy="9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Arial"/>
              </a:rPr>
              <a:t>Логика базы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2"/>
          <p:cNvSpPr/>
          <p:nvPr/>
        </p:nvSpPr>
        <p:spPr>
          <a:xfrm>
            <a:off x="3527280" y="2546280"/>
            <a:ext cx="1947960" cy="63036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11"/>
          <p:cNvSpPr/>
          <p:nvPr/>
        </p:nvSpPr>
        <p:spPr>
          <a:xfrm rot="1287600">
            <a:off x="3543480" y="3311280"/>
            <a:ext cx="1947600" cy="6300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трелка вправо 12"/>
          <p:cNvSpPr/>
          <p:nvPr/>
        </p:nvSpPr>
        <p:spPr>
          <a:xfrm>
            <a:off x="3592440" y="4562640"/>
            <a:ext cx="1947960" cy="6300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13"/>
          <p:cNvSpPr/>
          <p:nvPr/>
        </p:nvSpPr>
        <p:spPr>
          <a:xfrm>
            <a:off x="3625920" y="5950080"/>
            <a:ext cx="1947960" cy="6300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922040"/>
            <a:ext cx="841860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Назначе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й соста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</a:rPr>
              <a:t>Категории информации (подсистем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Функциональные связи с внешними сист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бщие свойства хранимых классов базы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Учётный механизм информации регионального уров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хранения состояний объектов, не являющихся объектами у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обработки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выгрузки данных в виде файлов формата об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Механизм </a:t>
            </a:r>
            <a:r>
              <a:rPr b="1" lang="en-US" sz="2200" spc="-1" strike="noStrike">
                <a:solidFill>
                  <a:srgbClr val="004586"/>
                </a:solidFill>
                <a:latin typeface="Times New Roman"/>
              </a:rPr>
              <a:t>on-line </a:t>
            </a: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лучения данных от удалё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Взаимодействие между информационными системами различных уровн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ринципы построения клиентской части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5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"/>
          <p:cNvSpPr/>
          <p:nvPr/>
        </p:nvSpPr>
        <p:spPr>
          <a:xfrm>
            <a:off x="1079640" y="539640"/>
            <a:ext cx="86090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Категории информации (подсистем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900000" y="1979640"/>
            <a:ext cx="828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4586"/>
                </a:solidFill>
                <a:latin typeface="Times New Roman"/>
              </a:rPr>
              <a:t>Информация федеральн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38080" y="25146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Лица в розыс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Утраченные документы и спецпродук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Распределение спецпродукции по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Утраченное оруж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Разыскиваемый транспорт по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Ограничения на транспортные сред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c4c4c"/>
                </a:solidFill>
                <a:latin typeface="Arial"/>
              </a:rPr>
              <a:t>Паспорта Т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0T21:50:29Z</dcterms:modified>
  <cp:revision>166</cp:revision>
  <dc:subject/>
  <dc:title>Презентация нового продукта</dc:title>
</cp:coreProperties>
</file>