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7D8-27BA-4392-9717-E7204A6A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EB7-E59F-44E9-8E4D-A0C9DBF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C6A-2647-4DDC-9231-1EEF38C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56E-69A4-4604-AD1A-BBAB6E5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AB9-52F9-48D8-B8F8-84231B8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E85-4FAC-4831-8448-4A85528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511-B67C-4708-8273-FA9DFAC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596-0B76-407A-8870-D0A4014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8A2-A557-4E48-BF6E-B92B016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71A-AB6D-4948-8929-02BE1E2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257-B09B-46E7-87C6-870D2ACA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26C-DDCB-4208-B512-80B096CE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07C3-5DD2-446C-A87F-77016A9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6FCB-85B1-4836-9A99-80FDA57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28D-7AD0-4E8D-BA91-38BCE1D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7BC-6018-4BD4-9CD5-B216D1D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826A-C2B0-4C1E-904F-841AD5AF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8F1-4921-4EF3-A7A8-21DEC18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75B-0AEF-4F16-8009-64EBF4A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AA38-FCC8-4C62-9586-11574C1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8C9C-C4D0-463B-891D-9238F5E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18E8-CA6E-459E-8C97-72B7155D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829-F729-4C27-9468-D6A4236E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23B-E705-4C75-9DDC-D1785A78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BE89-F04C-4E45-BA2A-C7FA17231F7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AD288-BB3B-4045-9B3C-454B74329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Технология внедрения, обновления версий и технической поддерж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3316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Технология внедрения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Обновление версий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Организация технической поддержки ТРИС Р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4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3333"/>
                </a:solidFill>
                <a:uFillTx/>
                <a:latin typeface="Constantia"/>
              </a:rPr>
              <a:t>Технология внедрения ТРИС Р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39640" y="1889280"/>
            <a:ext cx="918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ланирование потоков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вичная настройк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Выгрузка информации из эксплуатируемой И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конвертирования загружаемых данных. Пробные загрузки данных в ТРИС Р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вичная загрузка данных в ТРИС РВ. Фиксация точки актуальности дан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Организация регулярного пополнения данных ТРИС РВ по данным эксплуатируем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взаимодействия ТРИС РВ с другими ИС региона. Настройка «внутренних» потоков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ключение потоков информации «внешним» потребителям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Настройка ТРИС РВ для эксплуатации в подразделениях ГИБД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вод УГИБДД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еревод одного подразделения ГИБДД на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Окончательная настройка ТРИС РВ по результатам внедрения в одном подраздел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4c4c4c"/>
                </a:solidFill>
                <a:latin typeface="Arial"/>
              </a:rPr>
              <a:t>Поэтапный перевод подразделений на работу с ТРИС Р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1800360" y="360360"/>
            <a:ext cx="7777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3333"/>
                </a:solidFill>
                <a:uFillTx/>
                <a:latin typeface="Constantia"/>
              </a:rPr>
              <a:t>Обновление версий ТРИС Р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9640" y="1889280"/>
            <a:ext cx="918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Состав пакета обно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Файл </a:t>
            </a: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ReadMe.doc</a:t>
            </a: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бновление серверной част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Проверка возможности обно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Загрузка серверных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Сборка серверной част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Загрузка изменившихся справочных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Создание новых параметров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  <a:ea typeface="msmincho"/>
              </a:rPr>
              <a:t>Преобразование и переиндексация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Протокол обновления серверной част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бновление клиентской част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2"/>
          <p:cNvSpPr/>
          <p:nvPr/>
        </p:nvSpPr>
        <p:spPr>
          <a:xfrm>
            <a:off x="1800360" y="360360"/>
            <a:ext cx="7777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рганизация технической поддержки ТРИС Р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942840" y="2529000"/>
            <a:ext cx="506160" cy="1298160"/>
            <a:chOff x="942840" y="2529000"/>
            <a:chExt cx="506160" cy="1298160"/>
          </a:xfrm>
        </p:grpSpPr>
        <p:sp>
          <p:nvSpPr>
            <p:cNvPr id="312" name="AutoShape 4"/>
            <p:cNvSpPr/>
            <p:nvPr/>
          </p:nvSpPr>
          <p:spPr>
            <a:xfrm>
              <a:off x="972720" y="252900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5"/>
            <p:cNvSpPr/>
            <p:nvPr/>
          </p:nvSpPr>
          <p:spPr>
            <a:xfrm>
              <a:off x="1186560" y="304740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947160" y="317880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H="1">
              <a:off x="942840" y="356580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 flipH="1" flipV="1">
              <a:off x="1180440" y="355932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Вертикальный свиток 3"/>
          <p:cNvSpPr/>
          <p:nvPr/>
        </p:nvSpPr>
        <p:spPr>
          <a:xfrm>
            <a:off x="1509840" y="485136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Задача по настройке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Вертикальный свиток 19"/>
          <p:cNvSpPr/>
          <p:nvPr/>
        </p:nvSpPr>
        <p:spPr>
          <a:xfrm>
            <a:off x="4324320" y="485316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Задача по доработке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Вертикальный свиток 20"/>
          <p:cNvSpPr/>
          <p:nvPr/>
        </p:nvSpPr>
        <p:spPr>
          <a:xfrm>
            <a:off x="7104240" y="4842000"/>
            <a:ext cx="288108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Вертикальный свиток 21"/>
          <p:cNvSpPr/>
          <p:nvPr/>
        </p:nvSpPr>
        <p:spPr>
          <a:xfrm>
            <a:off x="4389480" y="2195640"/>
            <a:ext cx="2879640" cy="1365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бра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Штриховая стрелка вправо 4"/>
          <p:cNvSpPr/>
          <p:nvPr/>
        </p:nvSpPr>
        <p:spPr>
          <a:xfrm rot="8707800">
            <a:off x="2811240" y="3771720"/>
            <a:ext cx="1728720" cy="806400"/>
          </a:xfrm>
          <a:custGeom>
            <a:avLst/>
            <a:gdLst/>
            <a:ahLst/>
            <a:rect l="l" t="t" r="r" b="b"/>
            <a:pathLst>
              <a:path w="1728787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1325562" y="201613"/>
                </a:lnTo>
                <a:lnTo>
                  <a:pt x="1325562" y="0"/>
                </a:lnTo>
                <a:lnTo>
                  <a:pt x="1728787" y="403225"/>
                </a:lnTo>
                <a:lnTo>
                  <a:pt x="1325562" y="806450"/>
                </a:lnTo>
                <a:lnTo>
                  <a:pt x="1325562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Штриховая стрелка вправо 23"/>
          <p:cNvSpPr/>
          <p:nvPr/>
        </p:nvSpPr>
        <p:spPr>
          <a:xfrm rot="5400000">
            <a:off x="5246280" y="3768480"/>
            <a:ext cx="1165320" cy="806760"/>
          </a:xfrm>
          <a:custGeom>
            <a:avLst/>
            <a:gdLst/>
            <a:ahLst/>
            <a:rect l="l" t="t" r="r" b="b"/>
            <a:pathLst>
              <a:path w="1165225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762000" y="201613"/>
                </a:lnTo>
                <a:lnTo>
                  <a:pt x="762000" y="0"/>
                </a:lnTo>
                <a:lnTo>
                  <a:pt x="1165225" y="403225"/>
                </a:lnTo>
                <a:lnTo>
                  <a:pt x="762000" y="806450"/>
                </a:lnTo>
                <a:lnTo>
                  <a:pt x="762000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4"/>
          <p:cNvSpPr/>
          <p:nvPr/>
        </p:nvSpPr>
        <p:spPr>
          <a:xfrm rot="2178000">
            <a:off x="7110360" y="3650760"/>
            <a:ext cx="1806480" cy="806760"/>
          </a:xfrm>
          <a:custGeom>
            <a:avLst/>
            <a:gdLst/>
            <a:ahLst/>
            <a:rect l="l" t="t" r="r" b="b"/>
            <a:pathLst>
              <a:path w="1806575" h="806450">
                <a:moveTo>
                  <a:pt x="0" y="201613"/>
                </a:moveTo>
                <a:lnTo>
                  <a:pt x="25202" y="201613"/>
                </a:lnTo>
                <a:lnTo>
                  <a:pt x="25202" y="604838"/>
                </a:lnTo>
                <a:lnTo>
                  <a:pt x="0" y="604838"/>
                </a:lnTo>
                <a:lnTo>
                  <a:pt x="0" y="201613"/>
                </a:lnTo>
                <a:close/>
                <a:moveTo>
                  <a:pt x="50403" y="201613"/>
                </a:moveTo>
                <a:lnTo>
                  <a:pt x="100806" y="201613"/>
                </a:lnTo>
                <a:lnTo>
                  <a:pt x="100806" y="604838"/>
                </a:lnTo>
                <a:lnTo>
                  <a:pt x="50403" y="604838"/>
                </a:lnTo>
                <a:lnTo>
                  <a:pt x="50403" y="201613"/>
                </a:lnTo>
                <a:close/>
                <a:moveTo>
                  <a:pt x="126008" y="201613"/>
                </a:moveTo>
                <a:lnTo>
                  <a:pt x="1403350" y="201613"/>
                </a:lnTo>
                <a:lnTo>
                  <a:pt x="1403350" y="0"/>
                </a:lnTo>
                <a:lnTo>
                  <a:pt x="1806575" y="403225"/>
                </a:lnTo>
                <a:lnTo>
                  <a:pt x="1403350" y="806450"/>
                </a:lnTo>
                <a:lnTo>
                  <a:pt x="1403350" y="604838"/>
                </a:lnTo>
                <a:lnTo>
                  <a:pt x="126008" y="604838"/>
                </a:lnTo>
                <a:lnTo>
                  <a:pt x="126008" y="201613"/>
                </a:lnTo>
                <a:close/>
              </a:path>
            </a:pathLst>
          </a:cu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319640" y="6912000"/>
            <a:ext cx="5257800" cy="468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Очередная версия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низ 6"/>
          <p:cNvSpPr/>
          <p:nvPr/>
        </p:nvSpPr>
        <p:spPr>
          <a:xfrm>
            <a:off x="5184720" y="6278400"/>
            <a:ext cx="644760" cy="633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трелка вниз 27"/>
          <p:cNvSpPr/>
          <p:nvPr/>
        </p:nvSpPr>
        <p:spPr>
          <a:xfrm>
            <a:off x="8164440" y="6315120"/>
            <a:ext cx="646200" cy="635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00664d"/>
              </a:gs>
              <a:gs pos="100000">
                <a:srgbClr val="00664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17"/>
          <p:cNvSpPr/>
          <p:nvPr/>
        </p:nvSpPr>
        <p:spPr>
          <a:xfrm>
            <a:off x="1800360" y="2878200"/>
            <a:ext cx="2589120" cy="428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трелка углом вверх 29"/>
          <p:cNvSpPr/>
          <p:nvPr/>
        </p:nvSpPr>
        <p:spPr>
          <a:xfrm flipH="1">
            <a:off x="374760" y="4054320"/>
            <a:ext cx="3657600" cy="3326040"/>
          </a:xfrm>
          <a:custGeom>
            <a:avLst/>
            <a:gdLst/>
            <a:ahLst/>
            <a:rect l="l" t="t" r="r" b="b"/>
            <a:pathLst>
              <a:path w="3657600" h="3325813">
                <a:moveTo>
                  <a:pt x="0" y="2853980"/>
                </a:moveTo>
                <a:lnTo>
                  <a:pt x="2913699" y="2853980"/>
                </a:lnTo>
                <a:lnTo>
                  <a:pt x="2913699" y="908313"/>
                </a:lnTo>
                <a:lnTo>
                  <a:pt x="2641631" y="908313"/>
                </a:lnTo>
                <a:lnTo>
                  <a:pt x="3149615" y="0"/>
                </a:lnTo>
                <a:lnTo>
                  <a:pt x="3657600" y="908313"/>
                </a:lnTo>
                <a:lnTo>
                  <a:pt x="3385532" y="908313"/>
                </a:lnTo>
                <a:lnTo>
                  <a:pt x="3385532" y="3325813"/>
                </a:lnTo>
                <a:lnTo>
                  <a:pt x="0" y="3325813"/>
                </a:lnTo>
                <a:lnTo>
                  <a:pt x="0" y="285398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33"/>
          <p:cNvSpPr/>
          <p:nvPr/>
        </p:nvSpPr>
        <p:spPr>
          <a:xfrm rot="14221800">
            <a:off x="1252800" y="3781800"/>
            <a:ext cx="1692360" cy="61416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27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1T08:58:31Z</dcterms:modified>
  <cp:revision>235</cp:revision>
  <dc:subject/>
  <dc:title>Презентация нового продукта</dc:title>
</cp:coreProperties>
</file>