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7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D67-121F-4A13-BB74-C7A6E03E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B0F-B594-40B6-AA3E-9C5813D8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B9F-B0B0-463E-B2F5-DE139EC3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EFB-D640-4B93-9D33-D2B633C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BB2-C958-4FC5-BAD5-CB717D2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155-81C1-49E5-BD92-C3D09C1B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DD8-35C9-45BD-8A36-66AE6C95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A70-8779-46F3-BC27-F2016F9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6DA-063E-4940-84C6-1755B67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50B-8A05-4100-A4AB-2B1DB6D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49E-BB21-4C28-A14E-40DB4791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5B2-61F1-4D0F-A447-F9B83C62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E964-290E-4607-984B-7A2E649B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D085-6340-47B0-90D5-DCE95478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E89C-26EF-401E-8392-C82E2156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846A-4309-4289-ABCD-840D597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A23B-671D-4A8C-8F22-51225817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6DE4-6142-4639-8D8B-F2DD637B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A18-9655-4E20-9793-4BE88C9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5BD0-2AF0-48E8-BA76-43E4D64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C9E3-4901-44EE-BF60-AC90FEF5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C2B-A83F-4835-9AD3-060C5E69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95FE-611A-4ECE-96D0-BFB5689B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054F-6F4E-4F5B-92DB-5B0ABEB6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149080" y="472140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58480" y="210132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7408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6496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558480" y="4721400"/>
            <a:ext cx="27698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796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1400"/>
            <a:ext cx="860292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847520"/>
            <a:ext cx="85615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02920" y="68835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2"/>
          </p:nvPr>
        </p:nvSpPr>
        <p:spPr>
          <a:xfrm>
            <a:off x="3443400" y="688356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3"/>
          </p:nvPr>
        </p:nvSpPr>
        <p:spPr>
          <a:xfrm>
            <a:off x="7223040" y="68835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89B1-CF88-4E94-8C72-CC15E63A8F8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A82D8-791A-44F1-8495-3BEF5EFCA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11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21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292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0960" y="2949480"/>
            <a:ext cx="860904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ТРИС РВ ГИБДД МВД России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295" name="Line 4"/>
          <p:cNvSpPr/>
          <p:nvPr/>
        </p:nvSpPr>
        <p:spPr>
          <a:xfrm>
            <a:off x="539640" y="5219640"/>
            <a:ext cx="9360000" cy="180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979640" y="57434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39640" y="5427720"/>
            <a:ext cx="936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4586"/>
                </a:solidFill>
                <a:latin typeface="Constantia"/>
              </a:rPr>
              <a:t>Особенности эксплуатации на регионально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539640" y="2843280"/>
            <a:ext cx="9360000" cy="1440"/>
          </a:xfrm>
          <a:prstGeom prst="line">
            <a:avLst/>
          </a:prstGeom>
          <a:ln w="36000">
            <a:solidFill>
              <a:srgbClr val="0084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800360" y="1979640"/>
            <a:ext cx="66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586"/>
                </a:solidFill>
                <a:latin typeface="Constantia"/>
              </a:rPr>
              <a:t>СТРАС ГИБДД Р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539640" y="1979640"/>
            <a:ext cx="9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Arial"/>
              </a:rPr>
              <a:t>Необходимо определить правила формирования кода юридического лица таким образом, чтобы он был уникале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22228b"/>
                </a:solidFill>
                <a:latin typeface="Arial"/>
              </a:rPr>
              <a:t>Предложение: Код ЮЛ = ИНН + Код района регист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1940040" y="3352680"/>
            <a:ext cx="4686120" cy="27529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573120" y="2757600"/>
            <a:ext cx="91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Arial"/>
              </a:rPr>
              <a:t>При изменении ключевых свойств объекта пользователю выводится предупреждение с запрос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69880" y="6469200"/>
            <a:ext cx="9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Arial"/>
              </a:rPr>
              <a:t>Существует механизм корректировки связей «Характеристики-Текущее состояни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1"/>
          <p:cNvSpPr/>
          <p:nvPr/>
        </p:nvSpPr>
        <p:spPr>
          <a:xfrm>
            <a:off x="6767640" y="234000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80" name="Line 4"/>
          <p:cNvSpPr/>
          <p:nvPr/>
        </p:nvSpPr>
        <p:spPr>
          <a:xfrm>
            <a:off x="6767640" y="287964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6767640" y="2405160"/>
            <a:ext cx="2879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6767640" y="5256360"/>
            <a:ext cx="287964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7415280" y="5327640"/>
            <a:ext cx="161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6767640" y="575928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539640" y="1979640"/>
            <a:ext cx="4140360" cy="1440000"/>
          </a:xfrm>
          <a:prstGeom prst="wedgeRoundRectCallout">
            <a:avLst>
              <a:gd name="adj1" fmla="val 100726"/>
              <a:gd name="adj2" fmla="val 2730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кущее состояние объекта – сведения об объекте на данный момент врем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Изменение текущего состояния объекта возможно ТОЛЬКО с помощью НОВОЙ опе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620640" y="4878360"/>
            <a:ext cx="3240000" cy="1440000"/>
          </a:xfrm>
          <a:prstGeom prst="wedgeRoundRectCallout">
            <a:avLst>
              <a:gd name="adj1" fmla="val 141134"/>
              <a:gd name="adj2" fmla="val 1192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ерации – полные сведения о совершенных регистрационных действиях с объек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Операции с объектом НИКОГДА НЕ УДАЛЯЮ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7128000" y="3959280"/>
            <a:ext cx="0" cy="1297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2"/>
          <p:cNvSpPr/>
          <p:nvPr/>
        </p:nvSpPr>
        <p:spPr>
          <a:xfrm flipV="1">
            <a:off x="9286920" y="3954240"/>
            <a:ext cx="1440" cy="1269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079640" y="360036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 оп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4"/>
          <p:cNvSpPr/>
          <p:nvPr/>
        </p:nvSpPr>
        <p:spPr>
          <a:xfrm>
            <a:off x="4140360" y="3780000"/>
            <a:ext cx="50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1079640" y="4319640"/>
            <a:ext cx="306072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опе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6"/>
          <p:cNvSpPr/>
          <p:nvPr/>
        </p:nvSpPr>
        <p:spPr>
          <a:xfrm flipV="1">
            <a:off x="4140360" y="4498920"/>
            <a:ext cx="28796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3419640" y="6480000"/>
            <a:ext cx="2700000" cy="900360"/>
          </a:xfrm>
          <a:prstGeom prst="wedgeRectCallout">
            <a:avLst>
              <a:gd name="adj1" fmla="val 96527"/>
              <a:gd name="adj2" fmla="val -29171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buSzPct val="102837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ановка на уч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е характерист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ятие с уч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3"/>
          <p:cNvSpPr/>
          <p:nvPr/>
        </p:nvSpPr>
        <p:spPr>
          <a:xfrm>
            <a:off x="3103560" y="284472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AutoShape 4"/>
          <p:cNvCxnSpPr>
            <a:endCxn id="398" idx="2"/>
          </p:cNvCxnSpPr>
          <p:nvPr/>
        </p:nvCxnSpPr>
        <p:spPr>
          <a:xfrm flipV="1">
            <a:off x="1440000" y="6444360"/>
            <a:ext cx="1621440" cy="18360"/>
          </a:xfrm>
          <a:prstGeom prst="bentConnector3">
            <a:avLst>
              <a:gd name="adj1" fmla="val 49988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398" name="AutoShape 5"/>
          <p:cNvSpPr/>
          <p:nvPr/>
        </p:nvSpPr>
        <p:spPr>
          <a:xfrm>
            <a:off x="3060720" y="590544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6"/>
          <p:cNvCxnSpPr>
            <a:stCxn id="398" idx="0"/>
            <a:endCxn id="396" idx="3"/>
          </p:cNvCxnSpPr>
          <p:nvPr/>
        </p:nvCxnSpPr>
        <p:spPr>
          <a:xfrm flipV="1">
            <a:off x="4320720" y="3923640"/>
            <a:ext cx="43560" cy="2251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400" name="AutoShape 7"/>
          <p:cNvSpPr/>
          <p:nvPr/>
        </p:nvSpPr>
        <p:spPr>
          <a:xfrm>
            <a:off x="539640" y="305748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AutoShape 8"/>
          <p:cNvCxnSpPr>
            <a:endCxn id="398" idx="4"/>
          </p:cNvCxnSpPr>
          <p:nvPr/>
        </p:nvCxnSpPr>
        <p:spPr>
          <a:xfrm flipH="1">
            <a:off x="5579280" y="3457080"/>
            <a:ext cx="43560" cy="2988360"/>
          </a:xfrm>
          <a:prstGeom prst="bentConnector3">
            <a:avLst>
              <a:gd name="adj1" fmla="val -917500"/>
            </a:avLst>
          </a:prstGeom>
          <a:ln w="59400">
            <a:solidFill>
              <a:srgbClr val="eb613d"/>
            </a:solidFill>
            <a:round/>
            <a:tailEnd len="med" type="triangle" w="med"/>
          </a:ln>
        </p:spPr>
      </p:cxnSp>
      <p:sp>
        <p:nvSpPr>
          <p:cNvPr id="402" name="AutoShape 9"/>
          <p:cNvSpPr/>
          <p:nvPr/>
        </p:nvSpPr>
        <p:spPr>
          <a:xfrm>
            <a:off x="6769080" y="4716720"/>
            <a:ext cx="2160720" cy="664920"/>
          </a:xfrm>
          <a:prstGeom prst="wedgeRoundRectCallout">
            <a:avLst>
              <a:gd name="adj1" fmla="val -83796"/>
              <a:gd name="adj2" fmla="val 161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Региональные 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752040" y="5653080"/>
            <a:ext cx="685800" cy="1617480"/>
            <a:chOff x="752040" y="5653080"/>
            <a:chExt cx="685800" cy="1617480"/>
          </a:xfrm>
        </p:grpSpPr>
        <p:sp>
          <p:nvSpPr>
            <p:cNvPr id="404" name="AutoShape 15"/>
            <p:cNvSpPr/>
            <p:nvPr/>
          </p:nvSpPr>
          <p:spPr>
            <a:xfrm>
              <a:off x="791640" y="565308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1081800" y="629928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756720" y="6461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 flipH="1">
              <a:off x="752040" y="694440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 flipH="1" flipV="1">
              <a:off x="1073520" y="693792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6480000" y="3157920"/>
            <a:ext cx="3384720" cy="969480"/>
          </a:xfrm>
          <a:prstGeom prst="wedgeRoundRectCallout">
            <a:avLst>
              <a:gd name="adj1" fmla="val -112893"/>
              <a:gd name="adj2" fmla="val 163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При двустороннем обмене существует опасность «закольцовывания»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Загнутый угол 22"/>
          <p:cNvSpPr/>
          <p:nvPr/>
        </p:nvSpPr>
        <p:spPr>
          <a:xfrm>
            <a:off x="1227240" y="2035080"/>
            <a:ext cx="7926120" cy="6876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Обмен информацией осуществляется с помощью передачи сведений об операциях с объект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3"/>
          <p:cNvSpPr/>
          <p:nvPr/>
        </p:nvSpPr>
        <p:spPr>
          <a:xfrm>
            <a:off x="3103560" y="284472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4" name="AutoShape 4"/>
          <p:cNvCxnSpPr>
            <a:endCxn id="415" idx="2"/>
          </p:cNvCxnSpPr>
          <p:nvPr/>
        </p:nvCxnSpPr>
        <p:spPr>
          <a:xfrm flipV="1">
            <a:off x="1440000" y="6444360"/>
            <a:ext cx="1621440" cy="18360"/>
          </a:xfrm>
          <a:prstGeom prst="bentConnector3">
            <a:avLst>
              <a:gd name="adj1" fmla="val 49988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15" name="AutoShape 5"/>
          <p:cNvSpPr/>
          <p:nvPr/>
        </p:nvSpPr>
        <p:spPr>
          <a:xfrm>
            <a:off x="3060720" y="590544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6" name="AutoShape 6"/>
          <p:cNvCxnSpPr>
            <a:stCxn id="415" idx="0"/>
            <a:endCxn id="413" idx="3"/>
          </p:cNvCxnSpPr>
          <p:nvPr/>
        </p:nvCxnSpPr>
        <p:spPr>
          <a:xfrm flipV="1">
            <a:off x="4320720" y="3923640"/>
            <a:ext cx="43560" cy="2251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417" name="AutoShape 7"/>
          <p:cNvSpPr/>
          <p:nvPr/>
        </p:nvSpPr>
        <p:spPr>
          <a:xfrm>
            <a:off x="539640" y="305748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Group 14"/>
          <p:cNvGrpSpPr/>
          <p:nvPr/>
        </p:nvGrpSpPr>
        <p:grpSpPr>
          <a:xfrm>
            <a:off x="752040" y="5653080"/>
            <a:ext cx="685800" cy="1617480"/>
            <a:chOff x="752040" y="5653080"/>
            <a:chExt cx="685800" cy="1617480"/>
          </a:xfrm>
        </p:grpSpPr>
        <p:sp>
          <p:nvSpPr>
            <p:cNvPr id="419" name="AutoShape 15"/>
            <p:cNvSpPr/>
            <p:nvPr/>
          </p:nvSpPr>
          <p:spPr>
            <a:xfrm>
              <a:off x="791640" y="565308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6"/>
            <p:cNvSpPr/>
            <p:nvPr/>
          </p:nvSpPr>
          <p:spPr>
            <a:xfrm>
              <a:off x="1081800" y="629928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7"/>
            <p:cNvSpPr/>
            <p:nvPr/>
          </p:nvSpPr>
          <p:spPr>
            <a:xfrm>
              <a:off x="756720" y="6461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8"/>
            <p:cNvSpPr/>
            <p:nvPr/>
          </p:nvSpPr>
          <p:spPr>
            <a:xfrm flipH="1">
              <a:off x="752040" y="694440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9"/>
            <p:cNvSpPr/>
            <p:nvPr/>
          </p:nvSpPr>
          <p:spPr>
            <a:xfrm flipH="1" flipV="1">
              <a:off x="1073520" y="693792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480000" y="2837880"/>
            <a:ext cx="3384720" cy="1611000"/>
          </a:xfrm>
          <a:prstGeom prst="wedgeRoundRectCallout">
            <a:avLst>
              <a:gd name="adj1" fmla="val -113180"/>
              <a:gd name="adj2" fmla="val 1386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Отменить произведённую операцию невозмож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Для коррекции ошибки можно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произвести обратную операц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Произвести корректирующую опера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Загнутый угол 22"/>
          <p:cNvSpPr/>
          <p:nvPr/>
        </p:nvSpPr>
        <p:spPr>
          <a:xfrm>
            <a:off x="1227240" y="2035080"/>
            <a:ext cx="7926120" cy="6876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Обмен информацией осуществляется с помощью передачи сведений об операциях с объект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3"/>
          <p:cNvSpPr/>
          <p:nvPr/>
        </p:nvSpPr>
        <p:spPr>
          <a:xfrm>
            <a:off x="3330720" y="252396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егиональ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9" name="AutoShape 4"/>
          <p:cNvCxnSpPr>
            <a:endCxn id="430" idx="2"/>
          </p:cNvCxnSpPr>
          <p:nvPr/>
        </p:nvCxnSpPr>
        <p:spPr>
          <a:xfrm flipV="1">
            <a:off x="1666440" y="6124320"/>
            <a:ext cx="1621800" cy="18000"/>
          </a:xfrm>
          <a:prstGeom prst="bentConnector3">
            <a:avLst>
              <a:gd name="adj1" fmla="val 50000"/>
            </a:avLst>
          </a:prstGeom>
          <a:ln w="7200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430" name="AutoShape 5"/>
          <p:cNvSpPr/>
          <p:nvPr/>
        </p:nvSpPr>
        <p:spPr>
          <a:xfrm>
            <a:off x="3287880" y="5584680"/>
            <a:ext cx="2519280" cy="10789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 районного уров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1" name="AutoShape 6"/>
          <p:cNvCxnSpPr>
            <a:stCxn id="430" idx="0"/>
            <a:endCxn id="428" idx="3"/>
          </p:cNvCxnSpPr>
          <p:nvPr/>
        </p:nvCxnSpPr>
        <p:spPr>
          <a:xfrm flipV="1">
            <a:off x="4546440" y="3602880"/>
            <a:ext cx="43920" cy="2251800"/>
          </a:xfrm>
          <a:prstGeom prst="straightConnector1">
            <a:avLst/>
          </a:prstGeom>
          <a:ln w="5940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432" name="AutoShape 7"/>
          <p:cNvSpPr/>
          <p:nvPr/>
        </p:nvSpPr>
        <p:spPr>
          <a:xfrm>
            <a:off x="766800" y="2736720"/>
            <a:ext cx="2160720" cy="664920"/>
          </a:xfrm>
          <a:prstGeom prst="wedgeRoundRectCallout">
            <a:avLst>
              <a:gd name="adj1" fmla="val 125611"/>
              <a:gd name="adj2" fmla="val 160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Данные подраз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14"/>
          <p:cNvGrpSpPr/>
          <p:nvPr/>
        </p:nvGrpSpPr>
        <p:grpSpPr>
          <a:xfrm>
            <a:off x="979200" y="5332320"/>
            <a:ext cx="685800" cy="1617480"/>
            <a:chOff x="979200" y="5332320"/>
            <a:chExt cx="685800" cy="1617480"/>
          </a:xfrm>
        </p:grpSpPr>
        <p:sp>
          <p:nvSpPr>
            <p:cNvPr id="434" name="AutoShape 15"/>
            <p:cNvSpPr/>
            <p:nvPr/>
          </p:nvSpPr>
          <p:spPr>
            <a:xfrm>
              <a:off x="1018800" y="5332320"/>
              <a:ext cx="646200" cy="6447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6"/>
            <p:cNvSpPr/>
            <p:nvPr/>
          </p:nvSpPr>
          <p:spPr>
            <a:xfrm>
              <a:off x="1308960" y="5978520"/>
              <a:ext cx="1080" cy="64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17"/>
            <p:cNvSpPr/>
            <p:nvPr/>
          </p:nvSpPr>
          <p:spPr>
            <a:xfrm>
              <a:off x="983880" y="614052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 flipH="1">
              <a:off x="979200" y="6623640"/>
              <a:ext cx="33588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H="1" flipV="1">
              <a:off x="1300680" y="6617160"/>
              <a:ext cx="335880" cy="33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эксплуатации системы в распределённо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Загнутый угол 16"/>
          <p:cNvSpPr/>
          <p:nvPr/>
        </p:nvSpPr>
        <p:spPr>
          <a:xfrm>
            <a:off x="5342040" y="3797280"/>
            <a:ext cx="4198680" cy="158436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При изменении справочных данных необходимо в кратчайший срок произвести их актуализацию на всех уровн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В противном случае возможны ошибки обработки информ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8" descr=""/>
          <p:cNvPicPr/>
          <p:nvPr/>
        </p:nvPicPr>
        <p:blipFill>
          <a:blip r:embed="rId2"/>
          <a:stretch/>
        </p:blipFill>
        <p:spPr>
          <a:xfrm>
            <a:off x="1027080" y="2266920"/>
            <a:ext cx="8280360" cy="4559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Закрытие информации о физических и юридических лиц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Загнутый угол 5"/>
          <p:cNvSpPr/>
          <p:nvPr/>
        </p:nvSpPr>
        <p:spPr>
          <a:xfrm>
            <a:off x="5616720" y="5292720"/>
            <a:ext cx="4171680" cy="208764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Arial"/>
              </a:rPr>
              <a:t>При закрытии информации о физическом или юридическом лице, все характеристики физически перемещаются в слабо структурированный масс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22228b"/>
                </a:solidFill>
                <a:latin typeface="Arial"/>
              </a:rPr>
              <a:t>Таким образом, получение этих сведений стандартными средствами, вне зависимости от прав доступа пользователей, невозмож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Штриховая стрелка вправо 1"/>
          <p:cNvSpPr/>
          <p:nvPr/>
        </p:nvSpPr>
        <p:spPr>
          <a:xfrm rot="16200000">
            <a:off x="6819120" y="4372200"/>
            <a:ext cx="896760" cy="720720"/>
          </a:xfrm>
          <a:custGeom>
            <a:avLst/>
            <a:gdLst/>
            <a:ahLst/>
            <a:rect l="l" t="t" r="r" b="b"/>
            <a:pathLst>
              <a:path w="89747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lnTo>
                  <a:pt x="0" y="18002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lnTo>
                  <a:pt x="45005" y="180020"/>
                </a:lnTo>
                <a:close/>
                <a:moveTo>
                  <a:pt x="112513" y="180020"/>
                </a:moveTo>
                <a:lnTo>
                  <a:pt x="537430" y="180020"/>
                </a:lnTo>
                <a:lnTo>
                  <a:pt x="537430" y="0"/>
                </a:lnTo>
                <a:lnTo>
                  <a:pt x="897470" y="360040"/>
                </a:lnTo>
                <a:lnTo>
                  <a:pt x="537430" y="720080"/>
                </a:lnTo>
                <a:lnTo>
                  <a:pt x="537430" y="540060"/>
                </a:lnTo>
                <a:lnTo>
                  <a:pt x="112513" y="540060"/>
                </a:lnTo>
                <a:lnTo>
                  <a:pt x="112513" y="18002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0960" y="2338200"/>
            <a:ext cx="860904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Спасибо за внимание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50960" y="68904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3333"/>
                </a:solidFill>
                <a:latin typeface="Times New Roman"/>
              </a:rPr>
              <a:t>ООО "Росби Инфор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363600" y="179280"/>
            <a:ext cx="1255680" cy="144792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4"/>
          <p:cNvSpPr/>
          <p:nvPr/>
        </p:nvSpPr>
        <p:spPr>
          <a:xfrm>
            <a:off x="750960" y="4030560"/>
            <a:ext cx="8609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586"/>
                </a:solidFill>
                <a:latin typeface="Constantia"/>
              </a:rPr>
              <a:t>Вопрос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0960" y="1792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Constantia"/>
              </a:rPr>
              <a:t>Содержание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2390400"/>
            <a:ext cx="841860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собенности работы со списками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Поиск связанной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Использование стандартного поискового моду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Идентификация физических и юридических л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Особенности эксплуатации системы в распределён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6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586"/>
                </a:solidFill>
                <a:latin typeface="Times New Roman"/>
              </a:rPr>
              <a:t>Закрытие информации о физических и юридических лиц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177840"/>
                <a:tab algn="l" pos="28260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7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работы со списками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2252520" y="2266920"/>
            <a:ext cx="6691320" cy="1513080"/>
          </a:xfrm>
          <a:prstGeom prst="rect">
            <a:avLst/>
          </a:prstGeom>
          <a:ln w="0">
            <a:noFill/>
          </a:ln>
        </p:spPr>
      </p:pic>
      <p:sp>
        <p:nvSpPr>
          <p:cNvPr id="306" name="Загнутый угол 1"/>
          <p:cNvSpPr/>
          <p:nvPr/>
        </p:nvSpPr>
        <p:spPr>
          <a:xfrm>
            <a:off x="1327320" y="5970600"/>
            <a:ext cx="7926120" cy="12240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Описания списков объектов формируются автоматичес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Имеется возможность изменить состав отображаем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Существует возможность фильтрации и поиска информации в спис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Доступность операций со списками определяется настройкой прав доступа пользоват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Группа 7"/>
          <p:cNvGrpSpPr/>
          <p:nvPr/>
        </p:nvGrpSpPr>
        <p:grpSpPr>
          <a:xfrm>
            <a:off x="2668680" y="4362480"/>
            <a:ext cx="2303280" cy="914400"/>
            <a:chOff x="2668680" y="4362480"/>
            <a:chExt cx="2303280" cy="914400"/>
          </a:xfrm>
        </p:grpSpPr>
        <p:sp>
          <p:nvSpPr>
            <p:cNvPr id="308" name="Прямоугольник 8"/>
            <p:cNvSpPr/>
            <p:nvPr/>
          </p:nvSpPr>
          <p:spPr>
            <a:xfrm>
              <a:off x="2668680" y="4535280"/>
              <a:ext cx="2303280" cy="7416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отображения информ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Прямоугольник 9"/>
            <p:cNvSpPr/>
            <p:nvPr/>
          </p:nvSpPr>
          <p:spPr>
            <a:xfrm>
              <a:off x="4108320" y="4362480"/>
              <a:ext cx="863640" cy="1728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3"/>
          <p:cNvGrpSpPr/>
          <p:nvPr/>
        </p:nvGrpSpPr>
        <p:grpSpPr>
          <a:xfrm>
            <a:off x="685800" y="4257720"/>
            <a:ext cx="506160" cy="1298160"/>
            <a:chOff x="685800" y="4257720"/>
            <a:chExt cx="506160" cy="1298160"/>
          </a:xfrm>
        </p:grpSpPr>
        <p:sp>
          <p:nvSpPr>
            <p:cNvPr id="311" name="AutoShape 4"/>
            <p:cNvSpPr/>
            <p:nvPr/>
          </p:nvSpPr>
          <p:spPr>
            <a:xfrm>
              <a:off x="715680" y="425772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5"/>
            <p:cNvSpPr/>
            <p:nvPr/>
          </p:nvSpPr>
          <p:spPr>
            <a:xfrm>
              <a:off x="929520" y="477612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>
              <a:off x="690120" y="490752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 flipH="1">
              <a:off x="685800" y="529452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8"/>
            <p:cNvSpPr/>
            <p:nvPr/>
          </p:nvSpPr>
          <p:spPr>
            <a:xfrm flipH="1" flipV="1">
              <a:off x="923400" y="528804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AutoShape 3"/>
          <p:cNvSpPr/>
          <p:nvPr/>
        </p:nvSpPr>
        <p:spPr>
          <a:xfrm>
            <a:off x="6480000" y="4408560"/>
            <a:ext cx="3203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Двойная стрелка влево/вправо 2"/>
          <p:cNvSpPr/>
          <p:nvPr/>
        </p:nvSpPr>
        <p:spPr>
          <a:xfrm>
            <a:off x="5114880" y="4716360"/>
            <a:ext cx="1293840" cy="432000"/>
          </a:xfrm>
          <a:prstGeom prst="leftRight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Двойная стрелка влево/вправо 18"/>
          <p:cNvSpPr/>
          <p:nvPr/>
        </p:nvSpPr>
        <p:spPr>
          <a:xfrm>
            <a:off x="1327320" y="4689360"/>
            <a:ext cx="1293480" cy="433440"/>
          </a:xfrm>
          <a:prstGeom prst="leftRightArrow">
            <a:avLst>
              <a:gd name="adj1" fmla="val 50000"/>
              <a:gd name="adj2" fmla="val 49833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Двойная стрелка влево/вправо 22"/>
          <p:cNvSpPr/>
          <p:nvPr/>
        </p:nvSpPr>
        <p:spPr>
          <a:xfrm rot="5400000">
            <a:off x="3360600" y="3875040"/>
            <a:ext cx="765360" cy="432000"/>
          </a:xfrm>
          <a:prstGeom prst="leftRightArrow">
            <a:avLst>
              <a:gd name="adj1" fmla="val 50000"/>
              <a:gd name="adj2" fmla="val 49951"/>
            </a:avLst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Особенности работы со списками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39640" y="1979640"/>
            <a:ext cx="918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Фильтрация данных списка (кнопка «Фильтр») осуществляется путём выполнения нового </a:t>
            </a:r>
            <a:r>
              <a:rPr b="1" i="1" lang="en-US" sz="2200" spc="-1" strike="noStrike">
                <a:solidFill>
                  <a:srgbClr val="4c4c4c"/>
                </a:solidFill>
                <a:latin typeface="Arial"/>
              </a:rPr>
              <a:t>SQL</a:t>
            </a: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-запроса к Б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Поиск данных (кнопка «Поиск») осуществляется в отображаемой части спи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65200" y="3851280"/>
            <a:ext cx="91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Поэтому поиск всегда намного медленнее фильтр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Для поиска данных в большом массиве целесообразно использовать фильтрац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Группа 64"/>
          <p:cNvGrpSpPr/>
          <p:nvPr/>
        </p:nvGrpSpPr>
        <p:grpSpPr>
          <a:xfrm>
            <a:off x="5510160" y="2365200"/>
            <a:ext cx="4246560" cy="3540240"/>
            <a:chOff x="5510160" y="2365200"/>
            <a:chExt cx="4246560" cy="3540240"/>
          </a:xfrm>
        </p:grpSpPr>
        <p:sp>
          <p:nvSpPr>
            <p:cNvPr id="325" name="Прямоугольник 8"/>
            <p:cNvSpPr/>
            <p:nvPr/>
          </p:nvSpPr>
          <p:spPr>
            <a:xfrm>
              <a:off x="5510160" y="2734200"/>
              <a:ext cx="4246560" cy="3171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Arial"/>
                </a:rPr>
                <a:t>Механизм поиска связанной информ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оугольник 9"/>
            <p:cNvSpPr/>
            <p:nvPr/>
          </p:nvSpPr>
          <p:spPr>
            <a:xfrm>
              <a:off x="8164080" y="2365200"/>
              <a:ext cx="1592640" cy="3690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Поиск связанн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5364000" y="3182760"/>
            <a:ext cx="446724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3"/>
          <p:cNvGrpSpPr/>
          <p:nvPr/>
        </p:nvGrpSpPr>
        <p:grpSpPr>
          <a:xfrm>
            <a:off x="693720" y="2843280"/>
            <a:ext cx="506160" cy="1298160"/>
            <a:chOff x="693720" y="2843280"/>
            <a:chExt cx="506160" cy="1298160"/>
          </a:xfrm>
        </p:grpSpPr>
        <p:sp>
          <p:nvSpPr>
            <p:cNvPr id="331" name="AutoShape 4"/>
            <p:cNvSpPr/>
            <p:nvPr/>
          </p:nvSpPr>
          <p:spPr>
            <a:xfrm>
              <a:off x="723600" y="2843280"/>
              <a:ext cx="476280" cy="5169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>
              <a:off x="937440" y="336168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698040" y="3493080"/>
              <a:ext cx="4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H="1">
              <a:off x="693720" y="3880080"/>
              <a:ext cx="24840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8"/>
            <p:cNvSpPr/>
            <p:nvPr/>
          </p:nvSpPr>
          <p:spPr>
            <a:xfrm flipH="1" flipV="1">
              <a:off x="931320" y="3873600"/>
              <a:ext cx="2484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AutoShape 3"/>
          <p:cNvSpPr/>
          <p:nvPr/>
        </p:nvSpPr>
        <p:spPr>
          <a:xfrm>
            <a:off x="1428840" y="5219640"/>
            <a:ext cx="3203640" cy="87948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Загнутый угол 17"/>
          <p:cNvSpPr/>
          <p:nvPr/>
        </p:nvSpPr>
        <p:spPr>
          <a:xfrm>
            <a:off x="1508040" y="6307200"/>
            <a:ext cx="7927920" cy="936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Большое количество настроек поиска связанной информации для объектов класса замедляет открытие его карточ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</a:rPr>
              <a:t>Появляющиеся сообщения о наличии связанной информации могут замедлять работу пользов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2130480" y="2774880"/>
            <a:ext cx="2158920" cy="14400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ская часть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9" name="Прямая со стрелкой 2"/>
          <p:cNvCxnSpPr>
            <a:stCxn id="338" idx="0"/>
          </p:cNvCxnSpPr>
          <p:nvPr/>
        </p:nvCxnSpPr>
        <p:spPr>
          <a:xfrm>
            <a:off x="4289040" y="3494160"/>
            <a:ext cx="1221480" cy="984960"/>
          </a:xfrm>
          <a:prstGeom prst="straightConnector1">
            <a:avLst/>
          </a:prstGeom>
          <a:ln w="60480">
            <a:solidFill>
              <a:srgbClr val="0070c0"/>
            </a:solidFill>
            <a:prstDash val="sysDash"/>
            <a:miter/>
            <a:headEnd len="lg" type="stealth" w="med"/>
            <a:tailEnd len="lg" type="stealth" w="med"/>
          </a:ln>
        </p:spPr>
      </p:cxnSp>
      <p:cxnSp>
        <p:nvCxnSpPr>
          <p:cNvPr id="340" name="Прямая со стрелкой 51"/>
          <p:cNvCxnSpPr>
            <a:stCxn id="333" idx="0"/>
            <a:endCxn id="338" idx="1"/>
          </p:cNvCxnSpPr>
          <p:nvPr/>
        </p:nvCxnSpPr>
        <p:spPr>
          <a:xfrm flipV="1">
            <a:off x="1174320" y="3493440"/>
            <a:ext cx="956520" cy="108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341" name="Овальная выноска 23"/>
          <p:cNvSpPr/>
          <p:nvPr/>
        </p:nvSpPr>
        <p:spPr>
          <a:xfrm>
            <a:off x="828720" y="1979640"/>
            <a:ext cx="2314440" cy="569880"/>
          </a:xfrm>
          <a:prstGeom prst="wedgeEllipseCallout">
            <a:avLst>
              <a:gd name="adj1" fmla="val -11537"/>
              <a:gd name="adj2" fmla="val 213458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ткрыть карточку объе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Прямая со стрелкой 51"/>
          <p:cNvCxnSpPr/>
          <p:nvPr/>
        </p:nvCxnSpPr>
        <p:spPr>
          <a:xfrm flipH="1" flipV="1">
            <a:off x="1179000" y="3493800"/>
            <a:ext cx="951840" cy="483120"/>
          </a:xfrm>
          <a:prstGeom prst="straightConnector1">
            <a:avLst/>
          </a:prstGeom>
          <a:ln w="3492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343" name="Овальная выноска 31"/>
          <p:cNvSpPr/>
          <p:nvPr/>
        </p:nvSpPr>
        <p:spPr>
          <a:xfrm>
            <a:off x="461880" y="4354560"/>
            <a:ext cx="3210120" cy="720720"/>
          </a:xfrm>
          <a:prstGeom prst="wedgeEllipseCallout">
            <a:avLst>
              <a:gd name="adj1" fmla="val -17787"/>
              <a:gd name="adj2" fmla="val -147995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Сообщение о наличии связанн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Прямая со стрелкой 32"/>
          <p:cNvCxnSpPr>
            <a:stCxn id="336" idx="4"/>
          </p:cNvCxnSpPr>
          <p:nvPr/>
        </p:nvCxnSpPr>
        <p:spPr>
          <a:xfrm flipV="1">
            <a:off x="4632480" y="4477680"/>
            <a:ext cx="878400" cy="1181880"/>
          </a:xfrm>
          <a:prstGeom prst="straightConnector1">
            <a:avLst/>
          </a:prstGeom>
          <a:ln w="60480">
            <a:solidFill>
              <a:srgbClr val="0070c0"/>
            </a:solidFill>
            <a:prstDash val="sysDash"/>
            <a:miter/>
            <a:headEnd len="lg" type="stealth" w="med"/>
            <a:tailEnd len="lg" type="stealth" w="med"/>
          </a:ln>
        </p:spPr>
      </p:cxnSp>
      <p:cxnSp>
        <p:nvCxnSpPr>
          <p:cNvPr id="345" name="Прямая со стрелкой 37"/>
          <p:cNvCxnSpPr/>
          <p:nvPr/>
        </p:nvCxnSpPr>
        <p:spPr>
          <a:xfrm>
            <a:off x="3949200" y="4214520"/>
            <a:ext cx="1080" cy="1005480"/>
          </a:xfrm>
          <a:prstGeom prst="straightConnector1">
            <a:avLst/>
          </a:prstGeom>
          <a:ln w="60480">
            <a:solidFill>
              <a:srgbClr val="0070c0"/>
            </a:solidFill>
            <a:prstDash val="sysDash"/>
            <a:miter/>
            <a:headEnd len="lg" type="stealth" w="med"/>
            <a:tailEnd len="lg" type="stealth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спользование стандартного поискового моду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539640" y="1979640"/>
            <a:ext cx="918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отображения результатов запроса как в отдельном окне, так и в одном окне с критериями пои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отображения результатов запроса как в табличном виде, так и в виде карточе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печати результатов запро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Полностью или выбороч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В виде таблицы или карточ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  <a:ea typeface="msmincho"/>
              </a:rPr>
              <a:t>С использованием множества шаблон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дополнительных поиска и фильтрации результатов запрос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копирования в буфер обмена и вставки в </a:t>
            </a:r>
            <a:r>
              <a:rPr b="1" i="1" lang="en-US" sz="2200" spc="-1" strike="noStrike">
                <a:solidFill>
                  <a:srgbClr val="4c4c4c"/>
                </a:solidFill>
                <a:latin typeface="Arial"/>
              </a:rPr>
              <a:t>Microsoft Excel</a:t>
            </a: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 результатов запроса (полностью или выборочн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сохранения результатов запро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4c4c4c"/>
                </a:solidFill>
                <a:latin typeface="Arial"/>
              </a:rPr>
              <a:t>Возможность работы с найденным объектом непосредственно из результата запро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1"/>
          <p:cNvSpPr/>
          <p:nvPr/>
        </p:nvSpPr>
        <p:spPr>
          <a:xfrm>
            <a:off x="6975360" y="248112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6975360" y="30211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6975360" y="2546280"/>
            <a:ext cx="288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6975360" y="5397480"/>
            <a:ext cx="2880000" cy="16192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7048440" y="5468760"/>
            <a:ext cx="2700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арактеристики объ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6975360" y="6188040"/>
            <a:ext cx="288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1827360" y="5361120"/>
            <a:ext cx="3600360" cy="1226880"/>
          </a:xfrm>
          <a:prstGeom prst="wedgeRoundRectCallout">
            <a:avLst>
              <a:gd name="adj1" fmla="val 93254"/>
              <a:gd name="adj2" fmla="val -1349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едения об объекте на некоторый момент врем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ямое изменение характеристик невозмож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0"/>
          <p:cNvSpPr/>
          <p:nvPr/>
        </p:nvSpPr>
        <p:spPr>
          <a:xfrm>
            <a:off x="7335720" y="4100400"/>
            <a:ext cx="1800" cy="12607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 flipV="1">
            <a:off x="9495000" y="40957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4707000" y="3741840"/>
            <a:ext cx="1800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5967360" y="4100400"/>
            <a:ext cx="34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3267000" y="4460760"/>
            <a:ext cx="360036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5427720" y="4821120"/>
            <a:ext cx="180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6"/>
          <p:cNvSpPr/>
          <p:nvPr/>
        </p:nvSpPr>
        <p:spPr>
          <a:xfrm>
            <a:off x="568440" y="2046240"/>
            <a:ext cx="4500360" cy="1619280"/>
          </a:xfrm>
          <a:prstGeom prst="wedgeRoundRectCallout">
            <a:avLst>
              <a:gd name="adj1" fmla="val 92597"/>
              <a:gd name="adj2" fmla="val 314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изменении любого значения ВСЕГДА автоматически создаётся новый полный набор характеристик, которые становятся текущи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dc2300"/>
                </a:solidFill>
                <a:latin typeface="Arial"/>
              </a:rPr>
              <a:t>При этом прежний набор характеристик не измен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"/>
          <p:cNvPicPr/>
          <p:nvPr/>
        </p:nvPicPr>
        <p:blipFill>
          <a:blip r:embed="rId2"/>
          <a:stretch/>
        </p:blipFill>
        <p:spPr>
          <a:xfrm>
            <a:off x="1027080" y="2266920"/>
            <a:ext cx="8280360" cy="45594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63600" y="181080"/>
            <a:ext cx="1255680" cy="14475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1800360" y="360360"/>
            <a:ext cx="66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Constantia"/>
              </a:rPr>
              <a:t>Идентификация физических и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539640" y="2252520"/>
            <a:ext cx="918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</a:rPr>
              <a:t>Идентификация физического лица осуществляется п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Фамил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И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Отчеств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  <a:ea typeface="msmincho"/>
              </a:rPr>
              <a:t>Дате 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c4c4c"/>
                </a:solidFill>
                <a:latin typeface="Arial"/>
              </a:rPr>
              <a:t>Идентификация юридического лица осуществляется по коду пред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Загнутый угол 6"/>
          <p:cNvSpPr/>
          <p:nvPr/>
        </p:nvSpPr>
        <p:spPr>
          <a:xfrm>
            <a:off x="762120" y="4879800"/>
            <a:ext cx="7926120" cy="9367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ероятность неправильной установки связей «Характеристики – Текущее состоя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23:01Z</dcterms:created>
  <dc:creator>Viktor Morozov</dc:creator>
  <dc:description>Общая презентация нового продукта, учитывающая пожелания заказчика</dc:description>
  <dc:language>en-US</dc:language>
  <cp:lastModifiedBy>Виктор Эдуардович Морозов</cp:lastModifiedBy>
  <dcterms:modified xsi:type="dcterms:W3CDTF">2013-05-20T18:12:03Z</dcterms:modified>
  <cp:revision>218</cp:revision>
  <dc:subject/>
  <dc:title>Презентация нового продукта</dc:title>
</cp:coreProperties>
</file>