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768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0813-6000-4122-8827-D15BD2AF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A31C-9ED9-4D70-B4CD-8C31572E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2FEA-F250-4218-AD52-C560434A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0ED-7782-486D-9573-F8D931F5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CCFA-D8C0-4FE4-A22A-B0F79B4E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54E1-A87C-4EA2-9B76-DE157A22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40A-F524-4357-A1F2-FC7D37D5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0256-C029-489B-B483-E7933438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76B0-E68E-4F64-AA5D-438F4214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B44-1E66-48F8-8C9B-82E98662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B627-A214-4F1A-9D2E-161852CC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9375-AE13-4C4D-A3C5-D2FE2AE9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8E1D-5CBF-4B96-ACFC-6281A28B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4A23-8B03-4A03-8D6D-8E05CF11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19A8-6C5F-4368-B07B-5329908F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845A-2001-4F9C-8834-9E53EC24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D68F-AE3F-44D8-8B70-7A9951EF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5D52-7FA8-4F4D-A66A-292C626D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85DE-2FBD-4E6F-B0EE-AE4D5A01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4433-C9F6-4E72-9876-18B8B5ED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0BD1-7A0E-40C8-AD8B-B10AD58D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A72D-BCA0-409A-AC61-8C9524C6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50F3-A412-4964-9E1C-4A2AE3E1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C064-88BE-4F0A-860B-ECAE22CA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21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1847520"/>
            <a:ext cx="85615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502920" y="68835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2"/>
          </p:nvPr>
        </p:nvSpPr>
        <p:spPr>
          <a:xfrm>
            <a:off x="3443400" y="6883560"/>
            <a:ext cx="3186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3"/>
          </p:nvPr>
        </p:nvSpPr>
        <p:spPr>
          <a:xfrm>
            <a:off x="7223040" y="68835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MS Gothic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AC1A0-C975-432A-827F-06353E51407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3D2C8-A64A-4F57-9DAF-15124D9B7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21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640" y="1907640"/>
            <a:ext cx="93600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«Создание специализированной территориально-распределенной системы Госавтоинспекции реального времени» </a:t>
            </a:r>
            <a:br>
              <a:rPr sz="4400"/>
            </a:b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ОКР «Водолечение»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50960" y="68904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3333"/>
                </a:solidFill>
                <a:latin typeface="Times New Roman"/>
              </a:rPr>
              <a:t>ООО "Росби Информ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363600" y="179280"/>
            <a:ext cx="1255680" cy="1447920"/>
          </a:xfrm>
          <a:prstGeom prst="rect">
            <a:avLst/>
          </a:prstGeom>
          <a:ln w="0">
            <a:noFill/>
          </a:ln>
        </p:spPr>
      </p:pic>
      <p:sp>
        <p:nvSpPr>
          <p:cNvPr id="295" name="Line 4"/>
          <p:cNvSpPr/>
          <p:nvPr/>
        </p:nvSpPr>
        <p:spPr>
          <a:xfrm>
            <a:off x="539640" y="7018200"/>
            <a:ext cx="9360000" cy="1800"/>
          </a:xfrm>
          <a:prstGeom prst="line">
            <a:avLst/>
          </a:prstGeom>
          <a:ln w="36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979640" y="5743440"/>
            <a:ext cx="181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741240" y="555480"/>
            <a:ext cx="8609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333333"/>
                </a:solidFill>
                <a:uFillTx/>
                <a:latin typeface="Constantia"/>
              </a:rPr>
              <a:t>Техническо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539640" y="1954080"/>
            <a:ext cx="8101080" cy="41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26676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4586"/>
                </a:solidFill>
                <a:latin typeface="Arial"/>
              </a:rPr>
              <a:t>П. 2.2 Цели создания систем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6676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4586"/>
                </a:solidFill>
                <a:latin typeface="Arial"/>
              </a:rPr>
              <a:t>Обеспечение выполнения всех функций ФИС ГИБДД</a:t>
            </a:r>
            <a:r>
              <a:rPr b="1" i="1" lang="en-US" sz="2200" spc="-1" strike="noStrike">
                <a:solidFill>
                  <a:srgbClr val="004586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4586"/>
                </a:solidFill>
                <a:latin typeface="Arial"/>
              </a:rPr>
              <a:t>На базе опыта эксплуатации федеральной информационной системы Госавтоинспекции (СТРАС ГИБДД 2) реализация режима работы в реальном времени и требований по защите информации</a:t>
            </a:r>
            <a:r>
              <a:rPr b="1" i="1" lang="en-US" sz="2200" spc="-1" strike="noStrike">
                <a:solidFill>
                  <a:srgbClr val="004586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26676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Обеспечение замены эксплуатируемого в настоящее время в подразделениях ГИБДД разнородного программного обеспечения на разработанное в рамках данной ОКР программное обеспечение федерального, регионального и территориального (абонентского) уровн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741240" y="555480"/>
            <a:ext cx="8609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333333"/>
                </a:solidFill>
                <a:uFillTx/>
                <a:latin typeface="Constantia"/>
              </a:rPr>
              <a:t>Основные особенн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4"/>
          <p:cNvSpPr/>
          <p:nvPr/>
        </p:nvSpPr>
        <p:spPr>
          <a:xfrm>
            <a:off x="1046160" y="2556000"/>
            <a:ext cx="86425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1. Использование для автоматизации всех уровней единой платформы  - «Территориально-распределенная информационная система реального времени 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ТРИС РВ ГИБДД МВД России»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4586"/>
                </a:solidFill>
                <a:latin typeface="Arial"/>
              </a:rPr>
              <a:t>2. Единая информационная система федерального уровн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4586"/>
                </a:solidFill>
                <a:latin typeface="Arial"/>
              </a:rPr>
              <a:t>3. Отсутствие информационной системы межрегионального уровня (в МРЦ остаются только функции контроля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4586"/>
                </a:solidFill>
                <a:latin typeface="Arial"/>
              </a:rPr>
              <a:t>4. Не тиражируются федеральные розыскные баз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Что измениться</a:t>
            </a: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04" name="Рисунок 2" descr=""/>
          <p:cNvPicPr/>
          <p:nvPr/>
        </p:nvPicPr>
        <p:blipFill>
          <a:blip r:embed="rId1"/>
          <a:stretch/>
        </p:blipFill>
        <p:spPr>
          <a:xfrm>
            <a:off x="792000" y="2050920"/>
            <a:ext cx="8547120" cy="5307120"/>
          </a:xfrm>
          <a:prstGeom prst="rect">
            <a:avLst/>
          </a:prstGeom>
          <a:ln w="0">
            <a:noFill/>
          </a:ln>
        </p:spPr>
      </p:pic>
      <p:sp>
        <p:nvSpPr>
          <p:cNvPr id="305" name="Прямая соединительная линия 4"/>
          <p:cNvSpPr/>
          <p:nvPr/>
        </p:nvSpPr>
        <p:spPr>
          <a:xfrm>
            <a:off x="6769080" y="3838680"/>
            <a:ext cx="1727280" cy="1008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ая соединительная линия 6"/>
          <p:cNvSpPr/>
          <p:nvPr/>
        </p:nvSpPr>
        <p:spPr>
          <a:xfrm flipH="1">
            <a:off x="6769080" y="3838680"/>
            <a:ext cx="1295280" cy="1008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ая соединительная линия 7"/>
          <p:cNvSpPr/>
          <p:nvPr/>
        </p:nvSpPr>
        <p:spPr>
          <a:xfrm>
            <a:off x="2016000" y="3819600"/>
            <a:ext cx="1729080" cy="1008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ая соединительная линия 8"/>
          <p:cNvSpPr/>
          <p:nvPr/>
        </p:nvSpPr>
        <p:spPr>
          <a:xfrm flipH="1">
            <a:off x="2015640" y="3819600"/>
            <a:ext cx="1295640" cy="1008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ая соединительная линия 9"/>
          <p:cNvSpPr/>
          <p:nvPr/>
        </p:nvSpPr>
        <p:spPr>
          <a:xfrm>
            <a:off x="3311640" y="4765680"/>
            <a:ext cx="1728720" cy="1008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ая соединительная линия 10"/>
          <p:cNvSpPr/>
          <p:nvPr/>
        </p:nvSpPr>
        <p:spPr>
          <a:xfrm flipH="1">
            <a:off x="3311640" y="4765680"/>
            <a:ext cx="1296720" cy="1008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14"/>
          <p:cNvSpPr/>
          <p:nvPr/>
        </p:nvSpPr>
        <p:spPr>
          <a:xfrm>
            <a:off x="1518480" y="4879800"/>
            <a:ext cx="5191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Результат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13" name="Рисунок 2" descr=""/>
          <p:cNvPicPr/>
          <p:nvPr/>
        </p:nvPicPr>
        <p:blipFill>
          <a:blip r:embed="rId1"/>
          <a:stretch/>
        </p:blipFill>
        <p:spPr>
          <a:xfrm>
            <a:off x="1295280" y="2013120"/>
            <a:ext cx="800604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333333"/>
                </a:solidFill>
                <a:uFillTx/>
                <a:latin typeface="Constantia"/>
              </a:rPr>
              <a:t>Схема работы Системы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13427" descr=""/>
          <p:cNvPicPr/>
          <p:nvPr/>
        </p:nvPicPr>
        <p:blipFill>
          <a:blip r:embed="rId2"/>
          <a:stretch/>
        </p:blipFill>
        <p:spPr>
          <a:xfrm>
            <a:off x="792000" y="2124000"/>
            <a:ext cx="9020160" cy="50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741240" y="555480"/>
            <a:ext cx="86090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333333"/>
                </a:solidFill>
                <a:uFillTx/>
                <a:latin typeface="Constantia"/>
              </a:rPr>
              <a:t>Основные этап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4"/>
          <p:cNvSpPr/>
          <p:nvPr/>
        </p:nvSpPr>
        <p:spPr>
          <a:xfrm>
            <a:off x="1025640" y="2916360"/>
            <a:ext cx="810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4586"/>
                </a:solidFill>
                <a:latin typeface="Arial"/>
              </a:rPr>
              <a:t>- «Разработка» - </a:t>
            </a:r>
            <a:r>
              <a:rPr b="0" i="1" lang="ru-RU" sz="2200" spc="-1" strike="noStrike">
                <a:solidFill>
                  <a:srgbClr val="004586"/>
                </a:solidFill>
                <a:latin typeface="Arial"/>
              </a:rPr>
              <a:t>выполнено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4586"/>
                </a:solidFill>
                <a:latin typeface="Arial"/>
              </a:rPr>
              <a:t>- «Опытная эксплуатация» - </a:t>
            </a:r>
            <a:r>
              <a:rPr b="0" i="1" lang="ru-RU" sz="2200" spc="-1" strike="noStrike">
                <a:solidFill>
                  <a:srgbClr val="004586"/>
                </a:solidFill>
                <a:latin typeface="Arial"/>
              </a:rPr>
              <a:t>выполнено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4586"/>
                </a:solidFill>
                <a:latin typeface="Arial"/>
              </a:rPr>
              <a:t>- «Приемочные испытания» - </a:t>
            </a:r>
            <a:r>
              <a:rPr b="0" i="1" lang="ru-RU" sz="2200" spc="-1" strike="noStrike">
                <a:solidFill>
                  <a:srgbClr val="004586"/>
                </a:solidFill>
                <a:latin typeface="Arial"/>
              </a:rPr>
              <a:t>выполнено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- «Приказ о вводе в постоянную эксплуатацию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- «Внедрение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0960" y="2338200"/>
            <a:ext cx="8609040" cy="20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Спасибо за внимание!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750960" y="68904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3333"/>
                </a:solidFill>
                <a:latin typeface="Times New Roman"/>
              </a:rPr>
              <a:t>ООО "Росби Информ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1"/>
          <a:stretch/>
        </p:blipFill>
        <p:spPr>
          <a:xfrm>
            <a:off x="363600" y="179280"/>
            <a:ext cx="1255680" cy="14479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4"/>
          <p:cNvSpPr/>
          <p:nvPr/>
        </p:nvSpPr>
        <p:spPr>
          <a:xfrm>
            <a:off x="750960" y="4030560"/>
            <a:ext cx="860904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Вопрос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9:23:01Z</dcterms:created>
  <dc:creator>Viktor Morozov</dc:creator>
  <dc:description>Общая презентация нового продукта, учитывающая пожелания заказчика</dc:description>
  <dc:language>en-US</dc:language>
  <cp:lastModifiedBy>Александр Витальевич Федосеев</cp:lastModifiedBy>
  <dcterms:modified xsi:type="dcterms:W3CDTF">2013-05-23T07:09:11Z</dcterms:modified>
  <cp:revision>105</cp:revision>
  <dc:subject/>
  <dc:title>Презентация нового продукта</dc:title>
</cp:coreProperties>
</file>